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4.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8F4F34-6A3B-4FA9-BA80-6CCBDFAE3D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583A81-4613-436C-9233-EFED57D452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E57C9D-4442-423F-9B4D-68EAF145DD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FC7D8C-594D-4638-A288-8A2FDC278C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ED8F2E-07DF-4D61-A21C-6E1A9A8269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B687DF-4A02-4473-90B9-ADEF82D58A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E5E283-D2D2-46B6-9367-611FE44B1F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DFE25D-F7DA-438B-9866-0A91EC1AF5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69413E-E23B-464E-AFC8-921D04C729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991797-DA7F-40EE-898E-5AF1F0DEAA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5B57C5-3F3A-4B40-B234-657AA30315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422957-DA3D-4206-8AF5-E21AB13C1F3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1B6EF0-E2CB-4CF0-BFB6-678CE5F5774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28600" y="228600"/>
            <a:ext cx="86868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rm-up:</a:t>
            </a:r>
            <a:r>
              <a:rPr b="0" lang="en-US" sz="4400" spc="-1" strike="noStrike">
                <a:solidFill>
                  <a:srgbClr val="000000"/>
                </a:solidFill>
                <a:latin typeface="Times New Roman"/>
              </a:rPr>
              <a:t>  </a:t>
            </a:r>
            <a:r>
              <a:rPr b="0" lang="en-US" sz="2800" spc="-1" strike="noStrike">
                <a:solidFill>
                  <a:srgbClr val="000000"/>
                </a:solidFill>
                <a:latin typeface="Times New Roman"/>
              </a:rPr>
              <a:t>Identify the coordinates for each point below.</a:t>
            </a:r>
            <a:endParaRPr b="0" lang="en-US" sz="28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43" name="" descr=""/>
          <p:cNvPicPr/>
          <p:nvPr/>
        </p:nvPicPr>
        <p:blipFill>
          <a:blip r:embed="rId1"/>
          <a:stretch/>
        </p:blipFill>
        <p:spPr>
          <a:xfrm>
            <a:off x="609480" y="1066680"/>
            <a:ext cx="8001000" cy="5112000"/>
          </a:xfrm>
          <a:prstGeom prst="rect">
            <a:avLst/>
          </a:prstGeom>
          <a:ln w="0">
            <a:noFill/>
          </a:ln>
        </p:spPr>
      </p:pic>
      <p:sp>
        <p:nvSpPr>
          <p:cNvPr id="44" name=""/>
          <p:cNvSpPr/>
          <p:nvPr/>
        </p:nvSpPr>
        <p:spPr>
          <a:xfrm>
            <a:off x="2803680" y="2509920"/>
            <a:ext cx="295200" cy="285840"/>
          </a:xfrm>
          <a:custGeom>
            <a:avLst/>
            <a:gdLst/>
            <a:ahLst/>
            <a:rect l="l" t="t" r="r" b="b"/>
            <a:pathLst>
              <a:path w="819" h="795">
                <a:moveTo>
                  <a:pt x="8508" y="7590"/>
                </a:moveTo>
                <a:cubicBezTo>
                  <a:pt x="8508" y="7582"/>
                  <a:pt x="8508" y="7573"/>
                  <a:pt x="8508" y="7565"/>
                </a:cubicBezTo>
                <a:cubicBezTo>
                  <a:pt x="8481" y="7601"/>
                  <a:pt x="8426" y="7633"/>
                  <a:pt x="8458" y="7665"/>
                </a:cubicBezTo>
                <a:cubicBezTo>
                  <a:pt x="8498" y="7705"/>
                  <a:pt x="8508" y="7637"/>
                  <a:pt x="8508" y="7615"/>
                </a:cubicBezTo>
                <a:cubicBezTo>
                  <a:pt x="8508" y="7573"/>
                  <a:pt x="8462" y="7579"/>
                  <a:pt x="8458" y="7615"/>
                </a:cubicBezTo>
                <a:cubicBezTo>
                  <a:pt x="8451" y="7673"/>
                  <a:pt x="8474" y="7720"/>
                  <a:pt x="8483" y="7640"/>
                </a:cubicBezTo>
                <a:cubicBezTo>
                  <a:pt x="8491" y="7570"/>
                  <a:pt x="8431" y="7644"/>
                  <a:pt x="8458" y="7665"/>
                </a:cubicBezTo>
                <a:cubicBezTo>
                  <a:pt x="8478" y="7681"/>
                  <a:pt x="8550" y="7623"/>
                  <a:pt x="8483" y="7615"/>
                </a:cubicBezTo>
                <a:cubicBezTo>
                  <a:pt x="8400" y="7605"/>
                  <a:pt x="8445" y="7708"/>
                  <a:pt x="8458" y="7739"/>
                </a:cubicBezTo>
                <a:cubicBezTo>
                  <a:pt x="8502" y="7687"/>
                  <a:pt x="8610" y="7599"/>
                  <a:pt x="8508" y="7565"/>
                </a:cubicBezTo>
                <a:cubicBezTo>
                  <a:pt x="8435" y="7541"/>
                  <a:pt x="8362" y="7618"/>
                  <a:pt x="8384" y="7689"/>
                </a:cubicBezTo>
                <a:cubicBezTo>
                  <a:pt x="8406" y="7759"/>
                  <a:pt x="8494" y="7688"/>
                  <a:pt x="8508" y="7665"/>
                </a:cubicBezTo>
                <a:cubicBezTo>
                  <a:pt x="8533" y="7626"/>
                  <a:pt x="8465" y="7562"/>
                  <a:pt x="8434" y="7590"/>
                </a:cubicBezTo>
                <a:cubicBezTo>
                  <a:pt x="8363" y="7655"/>
                  <a:pt x="8375" y="7689"/>
                  <a:pt x="8458" y="7689"/>
                </a:cubicBezTo>
                <a:cubicBezTo>
                  <a:pt x="8505" y="7689"/>
                  <a:pt x="8514" y="7627"/>
                  <a:pt x="8533" y="7590"/>
                </a:cubicBezTo>
                <a:cubicBezTo>
                  <a:pt x="8530" y="7585"/>
                  <a:pt x="8436" y="7517"/>
                  <a:pt x="8409" y="7541"/>
                </a:cubicBezTo>
                <a:cubicBezTo>
                  <a:pt x="8332" y="7610"/>
                  <a:pt x="8409" y="7686"/>
                  <a:pt x="8434" y="7739"/>
                </a:cubicBezTo>
                <a:cubicBezTo>
                  <a:pt x="8455" y="7784"/>
                  <a:pt x="8531" y="7704"/>
                  <a:pt x="8558" y="7665"/>
                </a:cubicBezTo>
                <a:cubicBezTo>
                  <a:pt x="8566" y="7648"/>
                  <a:pt x="8574" y="7632"/>
                  <a:pt x="8582" y="7615"/>
                </a:cubicBezTo>
                <a:cubicBezTo>
                  <a:pt x="8582" y="7529"/>
                  <a:pt x="8548" y="7555"/>
                  <a:pt x="8483" y="7565"/>
                </a:cubicBezTo>
                <a:cubicBezTo>
                  <a:pt x="8443" y="7565"/>
                  <a:pt x="8424" y="7576"/>
                  <a:pt x="8409" y="7615"/>
                </a:cubicBezTo>
                <a:cubicBezTo>
                  <a:pt x="8414" y="7658"/>
                  <a:pt x="8413" y="7735"/>
                  <a:pt x="8458" y="7739"/>
                </a:cubicBezTo>
                <a:cubicBezTo>
                  <a:pt x="8514" y="7743"/>
                  <a:pt x="8607" y="7682"/>
                  <a:pt x="8607" y="7615"/>
                </a:cubicBezTo>
                <a:cubicBezTo>
                  <a:pt x="8607" y="7561"/>
                  <a:pt x="8525" y="7545"/>
                  <a:pt x="8483" y="7541"/>
                </a:cubicBezTo>
                <a:cubicBezTo>
                  <a:pt x="8440" y="7537"/>
                  <a:pt x="8390" y="7696"/>
                  <a:pt x="8409" y="7739"/>
                </a:cubicBezTo>
                <a:cubicBezTo>
                  <a:pt x="8429" y="7783"/>
                  <a:pt x="8548" y="7639"/>
                  <a:pt x="8558" y="7615"/>
                </a:cubicBezTo>
                <a:cubicBezTo>
                  <a:pt x="8574" y="7575"/>
                  <a:pt x="8529" y="7590"/>
                  <a:pt x="8508" y="7590"/>
                </a:cubicBezTo>
              </a:path>
              <a:path w="819" h="795">
                <a:moveTo>
                  <a:pt x="7789" y="7441"/>
                </a:moveTo>
                <a:cubicBezTo>
                  <a:pt x="7798" y="7342"/>
                  <a:pt x="7822" y="7274"/>
                  <a:pt x="7888" y="7193"/>
                </a:cubicBezTo>
                <a:cubicBezTo>
                  <a:pt x="7930" y="7141"/>
                  <a:pt x="7957" y="7097"/>
                  <a:pt x="7987" y="7045"/>
                </a:cubicBezTo>
                <a:cubicBezTo>
                  <a:pt x="8007" y="7004"/>
                  <a:pt x="8016" y="6998"/>
                  <a:pt x="8012" y="6970"/>
                </a:cubicBezTo>
                <a:cubicBezTo>
                  <a:pt x="8077" y="7003"/>
                  <a:pt x="8075" y="7077"/>
                  <a:pt x="8111" y="7144"/>
                </a:cubicBezTo>
                <a:cubicBezTo>
                  <a:pt x="8136" y="7190"/>
                  <a:pt x="8218" y="7264"/>
                  <a:pt x="8235" y="7293"/>
                </a:cubicBezTo>
                <a:cubicBezTo>
                  <a:pt x="8246" y="7311"/>
                  <a:pt x="8235" y="7370"/>
                  <a:pt x="8235" y="7392"/>
                </a:cubicBezTo>
              </a:path>
              <a:path w="819" h="795">
                <a:moveTo>
                  <a:pt x="7888" y="7342"/>
                </a:moveTo>
                <a:lnTo>
                  <a:pt x="7888" y="7342"/>
                </a:lnTo>
              </a:path>
              <a:path w="819" h="795">
                <a:moveTo>
                  <a:pt x="7888" y="7317"/>
                </a:moveTo>
                <a:cubicBezTo>
                  <a:pt x="7913" y="7317"/>
                  <a:pt x="7921" y="7317"/>
                  <a:pt x="7938" y="7317"/>
                </a:cubicBezTo>
                <a:cubicBezTo>
                  <a:pt x="7958" y="7287"/>
                  <a:pt x="8030" y="7273"/>
                  <a:pt x="8086" y="7268"/>
                </a:cubicBezTo>
                <a:cubicBezTo>
                  <a:pt x="8111" y="7268"/>
                  <a:pt x="8119" y="7268"/>
                  <a:pt x="8136" y="7268"/>
                </a:cubicBezTo>
              </a:path>
            </a:pathLst>
          </a:custGeom>
          <a:noFill/>
          <a:ln cap="rnd" w="3492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 name=""/>
          <p:cNvSpPr/>
          <p:nvPr/>
        </p:nvSpPr>
        <p:spPr>
          <a:xfrm>
            <a:off x="3544920" y="1847880"/>
            <a:ext cx="71280" cy="73080"/>
          </a:xfrm>
          <a:custGeom>
            <a:avLst/>
            <a:gdLst/>
            <a:ahLst/>
            <a:rect l="l" t="t" r="r" b="b"/>
            <a:pathLst>
              <a:path w="200" h="199">
                <a:moveTo>
                  <a:pt x="9947" y="5209"/>
                </a:moveTo>
                <a:cubicBezTo>
                  <a:pt x="9947" y="5189"/>
                  <a:pt x="9963" y="5115"/>
                  <a:pt x="9922" y="5135"/>
                </a:cubicBezTo>
                <a:cubicBezTo>
                  <a:pt x="9867" y="5162"/>
                  <a:pt x="9908" y="5206"/>
                  <a:pt x="9947" y="5184"/>
                </a:cubicBezTo>
                <a:cubicBezTo>
                  <a:pt x="9992" y="5158"/>
                  <a:pt x="9972" y="5143"/>
                  <a:pt x="9947" y="5135"/>
                </a:cubicBezTo>
                <a:cubicBezTo>
                  <a:pt x="9884" y="5135"/>
                  <a:pt x="9819" y="5144"/>
                  <a:pt x="9847" y="5234"/>
                </a:cubicBezTo>
                <a:cubicBezTo>
                  <a:pt x="9871" y="5311"/>
                  <a:pt x="9936" y="5229"/>
                  <a:pt x="9947" y="5209"/>
                </a:cubicBezTo>
                <a:cubicBezTo>
                  <a:pt x="9955" y="5192"/>
                  <a:pt x="9963" y="5176"/>
                  <a:pt x="9971" y="5159"/>
                </a:cubicBezTo>
                <a:cubicBezTo>
                  <a:pt x="9928" y="5159"/>
                  <a:pt x="9932" y="5158"/>
                  <a:pt x="9897" y="5184"/>
                </a:cubicBezTo>
                <a:cubicBezTo>
                  <a:pt x="9877" y="5294"/>
                  <a:pt x="9895" y="5353"/>
                  <a:pt x="10021" y="5283"/>
                </a:cubicBezTo>
                <a:cubicBezTo>
                  <a:pt x="10078" y="5251"/>
                  <a:pt x="10050" y="5176"/>
                  <a:pt x="9996" y="5159"/>
                </a:cubicBezTo>
                <a:cubicBezTo>
                  <a:pt x="9928" y="5138"/>
                  <a:pt x="9900" y="5232"/>
                  <a:pt x="9897" y="5283"/>
                </a:cubicBezTo>
                <a:cubicBezTo>
                  <a:pt x="9897" y="5300"/>
                  <a:pt x="9897" y="5316"/>
                  <a:pt x="9897" y="5333"/>
                </a:cubicBezTo>
                <a:cubicBezTo>
                  <a:pt x="9975" y="5333"/>
                  <a:pt x="10000" y="5318"/>
                  <a:pt x="10021" y="5234"/>
                </a:cubicBezTo>
                <a:cubicBezTo>
                  <a:pt x="10035" y="5179"/>
                  <a:pt x="9968" y="5137"/>
                  <a:pt x="9922" y="5184"/>
                </a:cubicBezTo>
                <a:cubicBezTo>
                  <a:pt x="9891" y="5215"/>
                  <a:pt x="9897" y="5246"/>
                  <a:pt x="9897" y="5283"/>
                </a:cubicBezTo>
              </a:path>
            </a:pathLst>
          </a:custGeom>
          <a:noFill/>
          <a:ln cap="rnd" w="34920">
            <a:solidFill>
              <a:srgbClr val="0000ff"/>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46" name=""/>
          <p:cNvSpPr/>
          <p:nvPr/>
        </p:nvSpPr>
        <p:spPr>
          <a:xfrm>
            <a:off x="3232080" y="1554120"/>
            <a:ext cx="179280" cy="241200"/>
          </a:xfrm>
          <a:custGeom>
            <a:avLst/>
            <a:gdLst/>
            <a:ahLst/>
            <a:rect l="l" t="t" r="r" b="b"/>
            <a:pathLst>
              <a:path w="497" h="671">
                <a:moveTo>
                  <a:pt x="9103" y="4366"/>
                </a:moveTo>
                <a:cubicBezTo>
                  <a:pt x="9085" y="4440"/>
                  <a:pt x="9092" y="4524"/>
                  <a:pt x="9103" y="4614"/>
                </a:cubicBezTo>
                <a:cubicBezTo>
                  <a:pt x="9118" y="4730"/>
                  <a:pt x="9167" y="4850"/>
                  <a:pt x="9178" y="4961"/>
                </a:cubicBezTo>
                <a:cubicBezTo>
                  <a:pt x="9178" y="4986"/>
                  <a:pt x="9178" y="4994"/>
                  <a:pt x="9178" y="4961"/>
                </a:cubicBezTo>
              </a:path>
              <a:path w="497" h="671">
                <a:moveTo>
                  <a:pt x="8979" y="4465"/>
                </a:moveTo>
                <a:cubicBezTo>
                  <a:pt x="9061" y="4392"/>
                  <a:pt x="9140" y="4336"/>
                  <a:pt x="9252" y="4316"/>
                </a:cubicBezTo>
                <a:cubicBezTo>
                  <a:pt x="9269" y="4316"/>
                  <a:pt x="9285" y="4316"/>
                  <a:pt x="9302" y="4316"/>
                </a:cubicBezTo>
                <a:cubicBezTo>
                  <a:pt x="9314" y="4411"/>
                  <a:pt x="9316" y="4418"/>
                  <a:pt x="9302" y="4514"/>
                </a:cubicBezTo>
                <a:cubicBezTo>
                  <a:pt x="9287" y="4613"/>
                  <a:pt x="9267" y="4655"/>
                  <a:pt x="9178" y="4713"/>
                </a:cubicBezTo>
                <a:cubicBezTo>
                  <a:pt x="9137" y="4733"/>
                  <a:pt x="9110" y="4742"/>
                  <a:pt x="9153" y="4738"/>
                </a:cubicBezTo>
                <a:cubicBezTo>
                  <a:pt x="9199" y="4691"/>
                  <a:pt x="9233" y="4643"/>
                  <a:pt x="9302" y="4638"/>
                </a:cubicBezTo>
                <a:cubicBezTo>
                  <a:pt x="9363" y="4634"/>
                  <a:pt x="9403" y="4595"/>
                  <a:pt x="9451" y="4663"/>
                </a:cubicBezTo>
                <a:cubicBezTo>
                  <a:pt x="9474" y="4696"/>
                  <a:pt x="9496" y="4799"/>
                  <a:pt x="9475" y="4837"/>
                </a:cubicBezTo>
                <a:cubicBezTo>
                  <a:pt x="9454" y="4876"/>
                  <a:pt x="9344" y="4949"/>
                  <a:pt x="9302" y="4961"/>
                </a:cubicBezTo>
                <a:cubicBezTo>
                  <a:pt x="9278" y="4968"/>
                  <a:pt x="9231" y="4961"/>
                  <a:pt x="9203" y="4961"/>
                </a:cubicBezTo>
              </a:path>
            </a:pathLst>
          </a:custGeom>
          <a:noFill/>
          <a:ln cap="rnd" w="3492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 name=""/>
          <p:cNvSpPr/>
          <p:nvPr/>
        </p:nvSpPr>
        <p:spPr>
          <a:xfrm>
            <a:off x="5599080" y="4875120"/>
            <a:ext cx="88920" cy="81000"/>
          </a:xfrm>
          <a:custGeom>
            <a:avLst/>
            <a:gdLst/>
            <a:ahLst/>
            <a:rect l="l" t="t" r="r" b="b"/>
            <a:pathLst>
              <a:path w="249" h="225">
                <a:moveTo>
                  <a:pt x="15726" y="13643"/>
                </a:moveTo>
                <a:cubicBezTo>
                  <a:pt x="15726" y="13597"/>
                  <a:pt x="15720" y="13545"/>
                  <a:pt x="15652" y="13568"/>
                </a:cubicBezTo>
                <a:cubicBezTo>
                  <a:pt x="15606" y="13584"/>
                  <a:pt x="15576" y="13655"/>
                  <a:pt x="15553" y="13692"/>
                </a:cubicBezTo>
                <a:cubicBezTo>
                  <a:pt x="15570" y="13744"/>
                  <a:pt x="15629" y="13714"/>
                  <a:pt x="15677" y="13692"/>
                </a:cubicBezTo>
                <a:cubicBezTo>
                  <a:pt x="15758" y="13655"/>
                  <a:pt x="15758" y="13644"/>
                  <a:pt x="15726" y="13568"/>
                </a:cubicBezTo>
                <a:cubicBezTo>
                  <a:pt x="15636" y="13550"/>
                  <a:pt x="15606" y="13527"/>
                  <a:pt x="15577" y="13643"/>
                </a:cubicBezTo>
                <a:cubicBezTo>
                  <a:pt x="15568" y="13680"/>
                  <a:pt x="15603" y="13756"/>
                  <a:pt x="15652" y="13742"/>
                </a:cubicBezTo>
                <a:cubicBezTo>
                  <a:pt x="15735" y="13718"/>
                  <a:pt x="15726" y="13638"/>
                  <a:pt x="15726" y="13568"/>
                </a:cubicBezTo>
                <a:cubicBezTo>
                  <a:pt x="15662" y="13542"/>
                  <a:pt x="15598" y="13602"/>
                  <a:pt x="15602" y="13692"/>
                </a:cubicBezTo>
                <a:cubicBezTo>
                  <a:pt x="15607" y="13790"/>
                  <a:pt x="15734" y="13767"/>
                  <a:pt x="15776" y="13717"/>
                </a:cubicBezTo>
                <a:cubicBezTo>
                  <a:pt x="15853" y="13626"/>
                  <a:pt x="15739" y="13584"/>
                  <a:pt x="15677" y="13568"/>
                </a:cubicBezTo>
                <a:cubicBezTo>
                  <a:pt x="15641" y="13592"/>
                  <a:pt x="15574" y="13669"/>
                  <a:pt x="15652" y="13717"/>
                </a:cubicBezTo>
                <a:cubicBezTo>
                  <a:pt x="15709" y="13752"/>
                  <a:pt x="15767" y="13686"/>
                  <a:pt x="15776" y="13643"/>
                </a:cubicBezTo>
                <a:cubicBezTo>
                  <a:pt x="15781" y="13617"/>
                  <a:pt x="15742" y="13565"/>
                  <a:pt x="15726" y="13643"/>
                </a:cubicBezTo>
              </a:path>
            </a:pathLst>
          </a:custGeom>
          <a:noFill/>
          <a:ln cap="rnd" w="34920">
            <a:solidFill>
              <a:srgbClr val="0000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8" name=""/>
          <p:cNvSpPr/>
          <p:nvPr/>
        </p:nvSpPr>
        <p:spPr>
          <a:xfrm>
            <a:off x="5732640" y="5010120"/>
            <a:ext cx="142560" cy="204840"/>
          </a:xfrm>
          <a:custGeom>
            <a:avLst/>
            <a:gdLst/>
            <a:ahLst/>
            <a:rect l="l" t="t" r="r" b="b"/>
            <a:pathLst>
              <a:path w="397" h="572">
                <a:moveTo>
                  <a:pt x="16148" y="14114"/>
                </a:moveTo>
                <a:cubicBezTo>
                  <a:pt x="16156" y="14122"/>
                  <a:pt x="16165" y="14131"/>
                  <a:pt x="16173" y="14139"/>
                </a:cubicBezTo>
                <a:cubicBezTo>
                  <a:pt x="16225" y="14121"/>
                  <a:pt x="16192" y="14040"/>
                  <a:pt x="16173" y="13990"/>
                </a:cubicBezTo>
                <a:cubicBezTo>
                  <a:pt x="16150" y="13928"/>
                  <a:pt x="16133" y="13915"/>
                  <a:pt x="16073" y="13915"/>
                </a:cubicBezTo>
                <a:cubicBezTo>
                  <a:pt x="15988" y="13915"/>
                  <a:pt x="15925" y="14203"/>
                  <a:pt x="15925" y="14263"/>
                </a:cubicBezTo>
                <a:cubicBezTo>
                  <a:pt x="15925" y="14403"/>
                  <a:pt x="16005" y="14499"/>
                  <a:pt x="16148" y="14486"/>
                </a:cubicBezTo>
                <a:cubicBezTo>
                  <a:pt x="16233" y="14478"/>
                  <a:pt x="16249" y="14436"/>
                  <a:pt x="16321" y="14436"/>
                </a:cubicBezTo>
              </a:path>
            </a:pathLst>
          </a:custGeom>
          <a:noFill/>
          <a:ln cap="rnd" w="3492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 name=""/>
          <p:cNvSpPr/>
          <p:nvPr/>
        </p:nvSpPr>
        <p:spPr>
          <a:xfrm>
            <a:off x="7134120" y="3160800"/>
            <a:ext cx="100080" cy="81000"/>
          </a:xfrm>
          <a:custGeom>
            <a:avLst/>
            <a:gdLst/>
            <a:ahLst/>
            <a:rect l="l" t="t" r="r" b="b"/>
            <a:pathLst>
              <a:path w="274" h="224">
                <a:moveTo>
                  <a:pt x="20067" y="8855"/>
                </a:moveTo>
                <a:cubicBezTo>
                  <a:pt x="20064" y="8845"/>
                  <a:pt x="20012" y="8802"/>
                  <a:pt x="19993" y="8806"/>
                </a:cubicBezTo>
                <a:cubicBezTo>
                  <a:pt x="19966" y="8812"/>
                  <a:pt x="19872" y="8871"/>
                  <a:pt x="19943" y="8880"/>
                </a:cubicBezTo>
                <a:cubicBezTo>
                  <a:pt x="19968" y="8880"/>
                  <a:pt x="19976" y="8880"/>
                  <a:pt x="19993" y="8880"/>
                </a:cubicBezTo>
                <a:cubicBezTo>
                  <a:pt x="19993" y="8836"/>
                  <a:pt x="19995" y="8841"/>
                  <a:pt x="19968" y="8806"/>
                </a:cubicBezTo>
                <a:cubicBezTo>
                  <a:pt x="19903" y="8757"/>
                  <a:pt x="19892" y="8779"/>
                  <a:pt x="19844" y="8855"/>
                </a:cubicBezTo>
                <a:cubicBezTo>
                  <a:pt x="19789" y="8943"/>
                  <a:pt x="19891" y="9019"/>
                  <a:pt x="19968" y="8954"/>
                </a:cubicBezTo>
                <a:cubicBezTo>
                  <a:pt x="19992" y="8906"/>
                  <a:pt x="20001" y="8892"/>
                  <a:pt x="19993" y="8855"/>
                </a:cubicBezTo>
                <a:cubicBezTo>
                  <a:pt x="19990" y="8847"/>
                  <a:pt x="19961" y="8787"/>
                  <a:pt x="19943" y="8806"/>
                </a:cubicBezTo>
                <a:cubicBezTo>
                  <a:pt x="19884" y="8868"/>
                  <a:pt x="19872" y="8914"/>
                  <a:pt x="19893" y="8979"/>
                </a:cubicBezTo>
                <a:cubicBezTo>
                  <a:pt x="19963" y="9002"/>
                  <a:pt x="20032" y="8992"/>
                  <a:pt x="20042" y="8905"/>
                </a:cubicBezTo>
                <a:cubicBezTo>
                  <a:pt x="20051" y="8830"/>
                  <a:pt x="20039" y="8820"/>
                  <a:pt x="19968" y="8806"/>
                </a:cubicBezTo>
                <a:cubicBezTo>
                  <a:pt x="19938" y="8875"/>
                  <a:pt x="19928" y="8917"/>
                  <a:pt x="20017" y="8880"/>
                </a:cubicBezTo>
                <a:cubicBezTo>
                  <a:pt x="20083" y="8853"/>
                  <a:pt x="20109" y="8836"/>
                  <a:pt x="20067" y="8781"/>
                </a:cubicBezTo>
              </a:path>
            </a:pathLst>
          </a:custGeom>
          <a:noFill/>
          <a:ln cap="rnd" w="34920">
            <a:solidFill>
              <a:srgbClr val="0000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0" name=""/>
          <p:cNvSpPr/>
          <p:nvPr/>
        </p:nvSpPr>
        <p:spPr>
          <a:xfrm>
            <a:off x="7313760" y="2901960"/>
            <a:ext cx="206280" cy="187200"/>
          </a:xfrm>
          <a:custGeom>
            <a:avLst/>
            <a:gdLst/>
            <a:ahLst/>
            <a:rect l="l" t="t" r="r" b="b"/>
            <a:pathLst>
              <a:path w="572" h="521">
                <a:moveTo>
                  <a:pt x="20538" y="8161"/>
                </a:moveTo>
                <a:cubicBezTo>
                  <a:pt x="20530" y="8301"/>
                  <a:pt x="20529" y="8419"/>
                  <a:pt x="20538" y="8558"/>
                </a:cubicBezTo>
                <a:cubicBezTo>
                  <a:pt x="20538" y="8566"/>
                  <a:pt x="20538" y="8574"/>
                  <a:pt x="20538" y="8582"/>
                </a:cubicBezTo>
              </a:path>
              <a:path w="572" h="521">
                <a:moveTo>
                  <a:pt x="20315" y="8136"/>
                </a:moveTo>
                <a:cubicBezTo>
                  <a:pt x="20400" y="8119"/>
                  <a:pt x="20498" y="8059"/>
                  <a:pt x="20588" y="8062"/>
                </a:cubicBezTo>
                <a:cubicBezTo>
                  <a:pt x="20712" y="8066"/>
                  <a:pt x="20818" y="8208"/>
                  <a:pt x="20861" y="8310"/>
                </a:cubicBezTo>
                <a:cubicBezTo>
                  <a:pt x="20923" y="8458"/>
                  <a:pt x="20872" y="8472"/>
                  <a:pt x="20737" y="8508"/>
                </a:cubicBezTo>
                <a:cubicBezTo>
                  <a:pt x="20672" y="8525"/>
                  <a:pt x="20604" y="8547"/>
                  <a:pt x="20538" y="8558"/>
                </a:cubicBezTo>
              </a:path>
            </a:pathLst>
          </a:custGeom>
          <a:noFill/>
          <a:ln cap="rnd" w="3492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 name=""/>
          <p:cNvSpPr/>
          <p:nvPr/>
        </p:nvSpPr>
        <p:spPr>
          <a:xfrm>
            <a:off x="5072040" y="1393920"/>
            <a:ext cx="241200" cy="276120"/>
          </a:xfrm>
          <a:custGeom>
            <a:avLst/>
            <a:gdLst/>
            <a:ahLst/>
            <a:rect l="l" t="t" r="r" b="b"/>
            <a:pathLst>
              <a:path w="671" h="769">
                <a:moveTo>
                  <a:pt x="14188" y="4018"/>
                </a:moveTo>
                <a:cubicBezTo>
                  <a:pt x="14215" y="3983"/>
                  <a:pt x="14228" y="3936"/>
                  <a:pt x="14238" y="3894"/>
                </a:cubicBezTo>
                <a:cubicBezTo>
                  <a:pt x="14215" y="3917"/>
                  <a:pt x="14149" y="3980"/>
                  <a:pt x="14188" y="4018"/>
                </a:cubicBezTo>
                <a:cubicBezTo>
                  <a:pt x="14219" y="4049"/>
                  <a:pt x="14298" y="4002"/>
                  <a:pt x="14312" y="3969"/>
                </a:cubicBezTo>
                <a:cubicBezTo>
                  <a:pt x="14312" y="3944"/>
                  <a:pt x="14312" y="3936"/>
                  <a:pt x="14312" y="3919"/>
                </a:cubicBezTo>
                <a:cubicBezTo>
                  <a:pt x="14254" y="3904"/>
                  <a:pt x="14243" y="3892"/>
                  <a:pt x="14188" y="3944"/>
                </a:cubicBezTo>
                <a:cubicBezTo>
                  <a:pt x="14124" y="4004"/>
                  <a:pt x="14086" y="4089"/>
                  <a:pt x="14139" y="4142"/>
                </a:cubicBezTo>
                <a:cubicBezTo>
                  <a:pt x="14235" y="4132"/>
                  <a:pt x="14299" y="4117"/>
                  <a:pt x="14337" y="4018"/>
                </a:cubicBezTo>
                <a:cubicBezTo>
                  <a:pt x="14353" y="3977"/>
                  <a:pt x="14181" y="3870"/>
                  <a:pt x="14139" y="3870"/>
                </a:cubicBezTo>
                <a:cubicBezTo>
                  <a:pt x="14048" y="3870"/>
                  <a:pt x="14106" y="4063"/>
                  <a:pt x="14114" y="4093"/>
                </a:cubicBezTo>
                <a:cubicBezTo>
                  <a:pt x="14185" y="4146"/>
                  <a:pt x="14212" y="4094"/>
                  <a:pt x="14238" y="4018"/>
                </a:cubicBezTo>
                <a:cubicBezTo>
                  <a:pt x="14238" y="3994"/>
                  <a:pt x="14238" y="3985"/>
                  <a:pt x="14238" y="3969"/>
                </a:cubicBezTo>
                <a:cubicBezTo>
                  <a:pt x="14195" y="3980"/>
                  <a:pt x="14134" y="4035"/>
                  <a:pt x="14163" y="4093"/>
                </a:cubicBezTo>
                <a:cubicBezTo>
                  <a:pt x="14198" y="4093"/>
                  <a:pt x="14211" y="4084"/>
                  <a:pt x="14213" y="4043"/>
                </a:cubicBezTo>
              </a:path>
              <a:path w="671" h="769">
                <a:moveTo>
                  <a:pt x="14461" y="4266"/>
                </a:moveTo>
                <a:cubicBezTo>
                  <a:pt x="14461" y="4335"/>
                  <a:pt x="14418" y="4618"/>
                  <a:pt x="14486" y="4638"/>
                </a:cubicBezTo>
                <a:cubicBezTo>
                  <a:pt x="14556" y="4659"/>
                  <a:pt x="14619" y="4596"/>
                  <a:pt x="14684" y="4589"/>
                </a:cubicBezTo>
                <a:cubicBezTo>
                  <a:pt x="14709" y="4589"/>
                  <a:pt x="14717" y="4589"/>
                  <a:pt x="14734" y="4589"/>
                </a:cubicBezTo>
              </a:path>
              <a:path w="671" h="769">
                <a:moveTo>
                  <a:pt x="14511" y="4415"/>
                </a:moveTo>
                <a:cubicBezTo>
                  <a:pt x="14511" y="4407"/>
                  <a:pt x="14511" y="4398"/>
                  <a:pt x="14511" y="4390"/>
                </a:cubicBezTo>
                <a:cubicBezTo>
                  <a:pt x="14573" y="4365"/>
                  <a:pt x="14635" y="4312"/>
                  <a:pt x="14709" y="4291"/>
                </a:cubicBezTo>
                <a:cubicBezTo>
                  <a:pt x="14717" y="4291"/>
                  <a:pt x="14726" y="4291"/>
                  <a:pt x="14734" y="4291"/>
                </a:cubicBezTo>
              </a:path>
              <a:path w="671" h="769">
                <a:moveTo>
                  <a:pt x="14486" y="4192"/>
                </a:moveTo>
                <a:cubicBezTo>
                  <a:pt x="14529" y="4134"/>
                  <a:pt x="14636" y="4111"/>
                  <a:pt x="14709" y="4068"/>
                </a:cubicBezTo>
                <a:cubicBezTo>
                  <a:pt x="14732" y="4045"/>
                  <a:pt x="14736" y="4037"/>
                  <a:pt x="14759" y="4043"/>
                </a:cubicBezTo>
              </a:path>
            </a:pathLst>
          </a:custGeom>
          <a:noFill/>
          <a:ln cap="rnd" w="3492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 name=""/>
          <p:cNvSpPr/>
          <p:nvPr/>
        </p:nvSpPr>
        <p:spPr>
          <a:xfrm>
            <a:off x="3821040" y="4017960"/>
            <a:ext cx="117720" cy="384120"/>
          </a:xfrm>
          <a:custGeom>
            <a:avLst/>
            <a:gdLst/>
            <a:ahLst/>
            <a:rect l="l" t="t" r="r" b="b"/>
            <a:pathLst>
              <a:path w="324" h="1068">
                <a:moveTo>
                  <a:pt x="10666" y="11261"/>
                </a:moveTo>
                <a:cubicBezTo>
                  <a:pt x="10702" y="11250"/>
                  <a:pt x="10702" y="11248"/>
                  <a:pt x="10666" y="11237"/>
                </a:cubicBezTo>
                <a:cubicBezTo>
                  <a:pt x="10654" y="11282"/>
                  <a:pt x="10641" y="11307"/>
                  <a:pt x="10641" y="11361"/>
                </a:cubicBezTo>
                <a:cubicBezTo>
                  <a:pt x="10641" y="11400"/>
                  <a:pt x="10755" y="11353"/>
                  <a:pt x="10765" y="11336"/>
                </a:cubicBezTo>
                <a:cubicBezTo>
                  <a:pt x="10816" y="11252"/>
                  <a:pt x="10778" y="11258"/>
                  <a:pt x="10716" y="11212"/>
                </a:cubicBezTo>
                <a:cubicBezTo>
                  <a:pt x="10674" y="11180"/>
                  <a:pt x="10635" y="11163"/>
                  <a:pt x="10616" y="11237"/>
                </a:cubicBezTo>
                <a:cubicBezTo>
                  <a:pt x="10588" y="11347"/>
                  <a:pt x="10599" y="11375"/>
                  <a:pt x="10691" y="11385"/>
                </a:cubicBezTo>
                <a:cubicBezTo>
                  <a:pt x="10749" y="11344"/>
                  <a:pt x="10804" y="11272"/>
                  <a:pt x="10765" y="11187"/>
                </a:cubicBezTo>
                <a:cubicBezTo>
                  <a:pt x="10751" y="11157"/>
                  <a:pt x="10713" y="11138"/>
                  <a:pt x="10691" y="11162"/>
                </a:cubicBezTo>
                <a:cubicBezTo>
                  <a:pt x="10634" y="11223"/>
                  <a:pt x="10596" y="11311"/>
                  <a:pt x="10641" y="11385"/>
                </a:cubicBezTo>
                <a:cubicBezTo>
                  <a:pt x="10649" y="11393"/>
                  <a:pt x="10658" y="11402"/>
                  <a:pt x="10666" y="11410"/>
                </a:cubicBezTo>
                <a:cubicBezTo>
                  <a:pt x="10720" y="11397"/>
                  <a:pt x="10754" y="11349"/>
                  <a:pt x="10740" y="11286"/>
                </a:cubicBezTo>
                <a:cubicBezTo>
                  <a:pt x="10724" y="11210"/>
                  <a:pt x="10665" y="11200"/>
                  <a:pt x="10616" y="11237"/>
                </a:cubicBezTo>
                <a:cubicBezTo>
                  <a:pt x="10616" y="11294"/>
                  <a:pt x="10606" y="11313"/>
                  <a:pt x="10641" y="11336"/>
                </a:cubicBezTo>
                <a:cubicBezTo>
                  <a:pt x="10691" y="11303"/>
                  <a:pt x="10662" y="11224"/>
                  <a:pt x="10641" y="11261"/>
                </a:cubicBezTo>
                <a:cubicBezTo>
                  <a:pt x="10612" y="11312"/>
                  <a:pt x="10638" y="11370"/>
                  <a:pt x="10666" y="11261"/>
                </a:cubicBezTo>
                <a:cubicBezTo>
                  <a:pt x="10677" y="11218"/>
                  <a:pt x="10624" y="11295"/>
                  <a:pt x="10641" y="11336"/>
                </a:cubicBezTo>
                <a:cubicBezTo>
                  <a:pt x="10658" y="11377"/>
                  <a:pt x="10666" y="11265"/>
                  <a:pt x="10666" y="11261"/>
                </a:cubicBezTo>
              </a:path>
              <a:path w="324" h="1068">
                <a:moveTo>
                  <a:pt x="10616" y="11757"/>
                </a:moveTo>
                <a:cubicBezTo>
                  <a:pt x="10616" y="11657"/>
                  <a:pt x="10639" y="11905"/>
                  <a:pt x="10641" y="12005"/>
                </a:cubicBezTo>
                <a:cubicBezTo>
                  <a:pt x="10641" y="12012"/>
                  <a:pt x="10660" y="12235"/>
                  <a:pt x="10666" y="12229"/>
                </a:cubicBezTo>
                <a:cubicBezTo>
                  <a:pt x="10666" y="12221"/>
                  <a:pt x="10666" y="12212"/>
                  <a:pt x="10666" y="12204"/>
                </a:cubicBezTo>
              </a:path>
              <a:path w="324" h="1068">
                <a:moveTo>
                  <a:pt x="10641" y="11683"/>
                </a:moveTo>
                <a:cubicBezTo>
                  <a:pt x="10723" y="11667"/>
                  <a:pt x="10755" y="11600"/>
                  <a:pt x="10840" y="11584"/>
                </a:cubicBezTo>
                <a:cubicBezTo>
                  <a:pt x="10922" y="11568"/>
                  <a:pt x="10903" y="11560"/>
                  <a:pt x="10939" y="11584"/>
                </a:cubicBezTo>
              </a:path>
              <a:path w="324" h="1068">
                <a:moveTo>
                  <a:pt x="10691" y="11881"/>
                </a:moveTo>
                <a:cubicBezTo>
                  <a:pt x="10691" y="11906"/>
                  <a:pt x="10691" y="11914"/>
                  <a:pt x="10666" y="11906"/>
                </a:cubicBezTo>
                <a:cubicBezTo>
                  <a:pt x="10761" y="11906"/>
                  <a:pt x="10823" y="11878"/>
                  <a:pt x="10914" y="11857"/>
                </a:cubicBezTo>
                <a:cubicBezTo>
                  <a:pt x="10922" y="11857"/>
                  <a:pt x="10931" y="11857"/>
                  <a:pt x="10939" y="11857"/>
                </a:cubicBezTo>
              </a:path>
            </a:pathLst>
          </a:custGeom>
          <a:noFill/>
          <a:ln cap="rnd" w="3492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 name=""/>
          <p:cNvSpPr/>
          <p:nvPr/>
        </p:nvSpPr>
        <p:spPr>
          <a:xfrm>
            <a:off x="2616120" y="2884320"/>
            <a:ext cx="839880" cy="438480"/>
          </a:xfrm>
          <a:custGeom>
            <a:avLst/>
            <a:gdLst/>
            <a:ahLst/>
            <a:rect l="l" t="t" r="r" b="b"/>
            <a:pathLst>
              <a:path w="2332" h="1216">
                <a:moveTo>
                  <a:pt x="7789" y="8062"/>
                </a:moveTo>
                <a:cubicBezTo>
                  <a:pt x="7595" y="8100"/>
                  <a:pt x="7530" y="8252"/>
                  <a:pt x="7417" y="8409"/>
                </a:cubicBezTo>
                <a:cubicBezTo>
                  <a:pt x="7283" y="8594"/>
                  <a:pt x="7192" y="8755"/>
                  <a:pt x="7392" y="8930"/>
                </a:cubicBezTo>
                <a:cubicBezTo>
                  <a:pt x="7427" y="8930"/>
                  <a:pt x="7444" y="8934"/>
                  <a:pt x="7466" y="8954"/>
                </a:cubicBezTo>
              </a:path>
              <a:path w="2332" h="1216">
                <a:moveTo>
                  <a:pt x="9277" y="8012"/>
                </a:moveTo>
                <a:cubicBezTo>
                  <a:pt x="9400" y="8049"/>
                  <a:pt x="9564" y="8166"/>
                  <a:pt x="9599" y="8310"/>
                </a:cubicBezTo>
                <a:cubicBezTo>
                  <a:pt x="9652" y="8530"/>
                  <a:pt x="9506" y="8743"/>
                  <a:pt x="9351" y="8880"/>
                </a:cubicBezTo>
                <a:cubicBezTo>
                  <a:pt x="9307" y="8919"/>
                  <a:pt x="9233" y="8945"/>
                  <a:pt x="9178" y="8954"/>
                </a:cubicBezTo>
                <a:cubicBezTo>
                  <a:pt x="9161" y="8954"/>
                  <a:pt x="9145" y="8954"/>
                  <a:pt x="9128" y="8954"/>
                </a:cubicBezTo>
              </a:path>
              <a:path w="2332" h="1216">
                <a:moveTo>
                  <a:pt x="8260" y="8880"/>
                </a:moveTo>
                <a:cubicBezTo>
                  <a:pt x="8336" y="8993"/>
                  <a:pt x="8282" y="9082"/>
                  <a:pt x="8186" y="9178"/>
                </a:cubicBezTo>
                <a:cubicBezTo>
                  <a:pt x="8129" y="9215"/>
                  <a:pt x="8126" y="9232"/>
                  <a:pt x="8086" y="9227"/>
                </a:cubicBezTo>
              </a:path>
              <a:path w="2332" h="1216">
                <a:moveTo>
                  <a:pt x="7417" y="8632"/>
                </a:moveTo>
                <a:cubicBezTo>
                  <a:pt x="7474" y="8651"/>
                  <a:pt x="7481" y="8660"/>
                  <a:pt x="7516" y="8657"/>
                </a:cubicBezTo>
              </a:path>
              <a:path w="2332" h="1216">
                <a:moveTo>
                  <a:pt x="7714" y="8458"/>
                </a:moveTo>
                <a:cubicBezTo>
                  <a:pt x="7788" y="8417"/>
                  <a:pt x="7810" y="8395"/>
                  <a:pt x="7888" y="8434"/>
                </a:cubicBezTo>
                <a:cubicBezTo>
                  <a:pt x="7836" y="8498"/>
                  <a:pt x="7839" y="8536"/>
                  <a:pt x="7764" y="8558"/>
                </a:cubicBezTo>
                <a:cubicBezTo>
                  <a:pt x="7831" y="8558"/>
                  <a:pt x="7925" y="8532"/>
                  <a:pt x="7962" y="8607"/>
                </a:cubicBezTo>
                <a:cubicBezTo>
                  <a:pt x="8003" y="8689"/>
                  <a:pt x="7827" y="8834"/>
                  <a:pt x="7764" y="8855"/>
                </a:cubicBezTo>
                <a:cubicBezTo>
                  <a:pt x="7696" y="8855"/>
                  <a:pt x="7677" y="8858"/>
                  <a:pt x="7640" y="8830"/>
                </a:cubicBezTo>
              </a:path>
              <a:path w="2332" h="1216">
                <a:moveTo>
                  <a:pt x="8607" y="8458"/>
                </a:moveTo>
                <a:cubicBezTo>
                  <a:pt x="8657" y="8383"/>
                  <a:pt x="8713" y="8350"/>
                  <a:pt x="8806" y="8334"/>
                </a:cubicBezTo>
                <a:cubicBezTo>
                  <a:pt x="8806" y="8403"/>
                  <a:pt x="8808" y="8497"/>
                  <a:pt x="8781" y="8558"/>
                </a:cubicBezTo>
                <a:cubicBezTo>
                  <a:pt x="8750" y="8629"/>
                  <a:pt x="8645" y="8673"/>
                  <a:pt x="8607" y="8731"/>
                </a:cubicBezTo>
                <a:cubicBezTo>
                  <a:pt x="8577" y="8777"/>
                  <a:pt x="8565" y="8830"/>
                  <a:pt x="8558" y="8880"/>
                </a:cubicBezTo>
                <a:cubicBezTo>
                  <a:pt x="8611" y="8797"/>
                  <a:pt x="8626" y="8716"/>
                  <a:pt x="8731" y="8781"/>
                </a:cubicBezTo>
                <a:cubicBezTo>
                  <a:pt x="8820" y="8836"/>
                  <a:pt x="8832" y="8849"/>
                  <a:pt x="8930" y="8781"/>
                </a:cubicBezTo>
                <a:cubicBezTo>
                  <a:pt x="8938" y="8773"/>
                  <a:pt x="8946" y="8764"/>
                  <a:pt x="8954" y="8756"/>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 name=""/>
          <p:cNvSpPr/>
          <p:nvPr/>
        </p:nvSpPr>
        <p:spPr>
          <a:xfrm>
            <a:off x="785880" y="3581280"/>
            <a:ext cx="322200" cy="214560"/>
          </a:xfrm>
          <a:custGeom>
            <a:avLst/>
            <a:gdLst/>
            <a:ahLst/>
            <a:rect l="l" t="t" r="r" b="b"/>
            <a:pathLst>
              <a:path w="894" h="596">
                <a:moveTo>
                  <a:pt x="2183" y="10542"/>
                </a:moveTo>
                <a:cubicBezTo>
                  <a:pt x="2280" y="10486"/>
                  <a:pt x="2370" y="10437"/>
                  <a:pt x="2456" y="10368"/>
                </a:cubicBezTo>
              </a:path>
              <a:path w="894" h="596">
                <a:moveTo>
                  <a:pt x="2505" y="10195"/>
                </a:moveTo>
                <a:cubicBezTo>
                  <a:pt x="2589" y="10264"/>
                  <a:pt x="2641" y="10327"/>
                  <a:pt x="2704" y="10418"/>
                </a:cubicBezTo>
              </a:path>
              <a:path w="894" h="596">
                <a:moveTo>
                  <a:pt x="2704" y="10120"/>
                </a:moveTo>
                <a:cubicBezTo>
                  <a:pt x="2723" y="10176"/>
                  <a:pt x="2734" y="10326"/>
                  <a:pt x="2828" y="10294"/>
                </a:cubicBezTo>
                <a:cubicBezTo>
                  <a:pt x="2915" y="10250"/>
                  <a:pt x="2938" y="10243"/>
                  <a:pt x="2977" y="10195"/>
                </a:cubicBezTo>
              </a:path>
              <a:path w="894" h="596">
                <a:moveTo>
                  <a:pt x="2828" y="9947"/>
                </a:moveTo>
                <a:cubicBezTo>
                  <a:pt x="2907" y="10147"/>
                  <a:pt x="2987" y="10346"/>
                  <a:pt x="3076" y="10542"/>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1339920" y="3660840"/>
            <a:ext cx="285840" cy="135000"/>
          </a:xfrm>
          <a:custGeom>
            <a:avLst/>
            <a:gdLst/>
            <a:ahLst/>
            <a:rect l="l" t="t" r="r" b="b"/>
            <a:pathLst>
              <a:path w="794" h="373">
                <a:moveTo>
                  <a:pt x="3721" y="10517"/>
                </a:moveTo>
                <a:cubicBezTo>
                  <a:pt x="3771" y="10501"/>
                  <a:pt x="3821" y="10470"/>
                  <a:pt x="3870" y="10443"/>
                </a:cubicBezTo>
              </a:path>
              <a:path w="794" h="373">
                <a:moveTo>
                  <a:pt x="3944" y="10244"/>
                </a:moveTo>
                <a:cubicBezTo>
                  <a:pt x="4001" y="10327"/>
                  <a:pt x="4060" y="10409"/>
                  <a:pt x="4118" y="10492"/>
                </a:cubicBezTo>
              </a:path>
              <a:path w="794" h="373">
                <a:moveTo>
                  <a:pt x="4118" y="10220"/>
                </a:moveTo>
                <a:cubicBezTo>
                  <a:pt x="4195" y="10220"/>
                  <a:pt x="4246" y="10201"/>
                  <a:pt x="4316" y="10170"/>
                </a:cubicBezTo>
                <a:cubicBezTo>
                  <a:pt x="4420" y="10315"/>
                  <a:pt x="4377" y="10387"/>
                  <a:pt x="4316" y="10542"/>
                </a:cubicBezTo>
                <a:cubicBezTo>
                  <a:pt x="4370" y="10503"/>
                  <a:pt x="4451" y="10422"/>
                  <a:pt x="4514" y="10368"/>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
          <p:cNvSpPr/>
          <p:nvPr/>
        </p:nvSpPr>
        <p:spPr>
          <a:xfrm>
            <a:off x="1911240" y="3616200"/>
            <a:ext cx="223920" cy="152640"/>
          </a:xfrm>
          <a:custGeom>
            <a:avLst/>
            <a:gdLst/>
            <a:ahLst/>
            <a:rect l="l" t="t" r="r" b="b"/>
            <a:pathLst>
              <a:path w="621" h="423">
                <a:moveTo>
                  <a:pt x="5308" y="10393"/>
                </a:moveTo>
                <a:cubicBezTo>
                  <a:pt x="5410" y="10359"/>
                  <a:pt x="5521" y="10352"/>
                  <a:pt x="5631" y="10344"/>
                </a:cubicBezTo>
              </a:path>
              <a:path w="621" h="423">
                <a:moveTo>
                  <a:pt x="5581" y="10145"/>
                </a:moveTo>
                <a:cubicBezTo>
                  <a:pt x="5568" y="10266"/>
                  <a:pt x="5573" y="10347"/>
                  <a:pt x="5581" y="10468"/>
                </a:cubicBezTo>
              </a:path>
              <a:path w="621" h="423">
                <a:moveTo>
                  <a:pt x="5705" y="10046"/>
                </a:moveTo>
                <a:cubicBezTo>
                  <a:pt x="5713" y="10189"/>
                  <a:pt x="5727" y="10295"/>
                  <a:pt x="5804" y="10418"/>
                </a:cubicBezTo>
                <a:cubicBezTo>
                  <a:pt x="5848" y="10382"/>
                  <a:pt x="6045" y="10185"/>
                  <a:pt x="5904" y="10120"/>
                </a:cubicBezTo>
                <a:cubicBezTo>
                  <a:pt x="5862" y="10120"/>
                  <a:pt x="5821" y="10120"/>
                  <a:pt x="5779" y="10120"/>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
          <p:cNvSpPr/>
          <p:nvPr/>
        </p:nvSpPr>
        <p:spPr>
          <a:xfrm>
            <a:off x="2455920" y="3652920"/>
            <a:ext cx="179280" cy="169920"/>
          </a:xfrm>
          <a:custGeom>
            <a:avLst/>
            <a:gdLst/>
            <a:ahLst/>
            <a:rect l="l" t="t" r="r" b="b"/>
            <a:pathLst>
              <a:path w="497" h="472">
                <a:moveTo>
                  <a:pt x="6821" y="10443"/>
                </a:moveTo>
                <a:cubicBezTo>
                  <a:pt x="6893" y="10383"/>
                  <a:pt x="6931" y="10373"/>
                  <a:pt x="7020" y="10344"/>
                </a:cubicBezTo>
              </a:path>
              <a:path w="497" h="472">
                <a:moveTo>
                  <a:pt x="7169" y="10145"/>
                </a:moveTo>
                <a:cubicBezTo>
                  <a:pt x="7081" y="10203"/>
                  <a:pt x="7037" y="10260"/>
                  <a:pt x="6970" y="10344"/>
                </a:cubicBezTo>
                <a:cubicBezTo>
                  <a:pt x="7045" y="10358"/>
                  <a:pt x="7383" y="10345"/>
                  <a:pt x="7317" y="10517"/>
                </a:cubicBezTo>
                <a:cubicBezTo>
                  <a:pt x="7239" y="10595"/>
                  <a:pt x="7237" y="10628"/>
                  <a:pt x="7169" y="10616"/>
                </a:cubicBezTo>
                <a:cubicBezTo>
                  <a:pt x="7157" y="10483"/>
                  <a:pt x="7197" y="10256"/>
                  <a:pt x="7169" y="10170"/>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
          <p:cNvSpPr/>
          <p:nvPr/>
        </p:nvSpPr>
        <p:spPr>
          <a:xfrm>
            <a:off x="2928960" y="3670200"/>
            <a:ext cx="258840" cy="152640"/>
          </a:xfrm>
          <a:custGeom>
            <a:avLst/>
            <a:gdLst/>
            <a:ahLst/>
            <a:rect l="l" t="t" r="r" b="b"/>
            <a:pathLst>
              <a:path w="720" h="422">
                <a:moveTo>
                  <a:pt x="8136" y="10443"/>
                </a:moveTo>
                <a:cubicBezTo>
                  <a:pt x="8228" y="10415"/>
                  <a:pt x="8300" y="10389"/>
                  <a:pt x="8384" y="10344"/>
                </a:cubicBezTo>
              </a:path>
              <a:path w="720" h="422">
                <a:moveTo>
                  <a:pt x="8458" y="10195"/>
                </a:moveTo>
                <a:cubicBezTo>
                  <a:pt x="8472" y="10315"/>
                  <a:pt x="8499" y="10508"/>
                  <a:pt x="8607" y="10592"/>
                </a:cubicBezTo>
                <a:cubicBezTo>
                  <a:pt x="8771" y="10719"/>
                  <a:pt x="8831" y="10379"/>
                  <a:pt x="8855" y="10294"/>
                </a:cubicBezTo>
                <a:cubicBezTo>
                  <a:pt x="8839" y="10269"/>
                  <a:pt x="8822" y="10245"/>
                  <a:pt x="8806" y="10220"/>
                </a:cubicBezTo>
                <a:cubicBezTo>
                  <a:pt x="8727" y="10337"/>
                  <a:pt x="8671" y="10428"/>
                  <a:pt x="8731" y="10567"/>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a:off x="3490920" y="3616200"/>
            <a:ext cx="223920" cy="233640"/>
          </a:xfrm>
          <a:custGeom>
            <a:avLst/>
            <a:gdLst/>
            <a:ahLst/>
            <a:rect l="l" t="t" r="r" b="b"/>
            <a:pathLst>
              <a:path w="621" h="646">
                <a:moveTo>
                  <a:pt x="9699" y="10468"/>
                </a:moveTo>
                <a:cubicBezTo>
                  <a:pt x="9832" y="10468"/>
                  <a:pt x="9892" y="10384"/>
                  <a:pt x="10021" y="10344"/>
                </a:cubicBezTo>
                <a:cubicBezTo>
                  <a:pt x="10038" y="10344"/>
                  <a:pt x="10054" y="10344"/>
                  <a:pt x="10071" y="10344"/>
                </a:cubicBezTo>
              </a:path>
              <a:path w="621" h="646">
                <a:moveTo>
                  <a:pt x="10046" y="10220"/>
                </a:moveTo>
                <a:cubicBezTo>
                  <a:pt x="10059" y="10498"/>
                  <a:pt x="10081" y="10512"/>
                  <a:pt x="10319" y="10368"/>
                </a:cubicBezTo>
              </a:path>
              <a:path w="621" h="646">
                <a:moveTo>
                  <a:pt x="10269" y="10046"/>
                </a:moveTo>
                <a:cubicBezTo>
                  <a:pt x="10253" y="10263"/>
                  <a:pt x="10254" y="10477"/>
                  <a:pt x="10294" y="10691"/>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4017960" y="3687840"/>
            <a:ext cx="260280" cy="117360"/>
          </a:xfrm>
          <a:custGeom>
            <a:avLst/>
            <a:gdLst/>
            <a:ahLst/>
            <a:rect l="l" t="t" r="r" b="b"/>
            <a:pathLst>
              <a:path w="720" h="324">
                <a:moveTo>
                  <a:pt x="11162" y="10393"/>
                </a:moveTo>
                <a:cubicBezTo>
                  <a:pt x="11247" y="10393"/>
                  <a:pt x="11302" y="10384"/>
                  <a:pt x="11385" y="10368"/>
                </a:cubicBezTo>
              </a:path>
              <a:path w="720" h="324">
                <a:moveTo>
                  <a:pt x="11460" y="10294"/>
                </a:moveTo>
                <a:cubicBezTo>
                  <a:pt x="11571" y="10209"/>
                  <a:pt x="11638" y="10283"/>
                  <a:pt x="11584" y="10418"/>
                </a:cubicBezTo>
                <a:cubicBezTo>
                  <a:pt x="11567" y="10443"/>
                  <a:pt x="11551" y="10467"/>
                  <a:pt x="11534" y="10492"/>
                </a:cubicBezTo>
                <a:cubicBezTo>
                  <a:pt x="11399" y="10699"/>
                  <a:pt x="11822" y="10386"/>
                  <a:pt x="11881" y="10344"/>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4983120" y="3643200"/>
            <a:ext cx="196920" cy="169920"/>
          </a:xfrm>
          <a:custGeom>
            <a:avLst/>
            <a:gdLst/>
            <a:ahLst/>
            <a:rect l="l" t="t" r="r" b="b"/>
            <a:pathLst>
              <a:path w="547" h="473">
                <a:moveTo>
                  <a:pt x="13841" y="10393"/>
                </a:moveTo>
                <a:cubicBezTo>
                  <a:pt x="13893" y="10247"/>
                  <a:pt x="13931" y="10210"/>
                  <a:pt x="14064" y="10120"/>
                </a:cubicBezTo>
                <a:cubicBezTo>
                  <a:pt x="14105" y="10223"/>
                  <a:pt x="14139" y="10365"/>
                  <a:pt x="14064" y="10468"/>
                </a:cubicBezTo>
                <a:cubicBezTo>
                  <a:pt x="14034" y="10508"/>
                  <a:pt x="13957" y="10562"/>
                  <a:pt x="13915" y="10592"/>
                </a:cubicBezTo>
                <a:cubicBezTo>
                  <a:pt x="14058" y="10561"/>
                  <a:pt x="14148" y="10455"/>
                  <a:pt x="14288" y="10418"/>
                </a:cubicBezTo>
                <a:cubicBezTo>
                  <a:pt x="14337" y="10418"/>
                  <a:pt x="14354" y="10418"/>
                  <a:pt x="14387" y="10418"/>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5527800" y="3652920"/>
            <a:ext cx="125280" cy="196920"/>
          </a:xfrm>
          <a:custGeom>
            <a:avLst/>
            <a:gdLst/>
            <a:ahLst/>
            <a:rect l="l" t="t" r="r" b="b"/>
            <a:pathLst>
              <a:path w="348" h="547">
                <a:moveTo>
                  <a:pt x="15404" y="10344"/>
                </a:moveTo>
                <a:cubicBezTo>
                  <a:pt x="15375" y="10400"/>
                  <a:pt x="15364" y="10424"/>
                  <a:pt x="15354" y="10468"/>
                </a:cubicBezTo>
                <a:cubicBezTo>
                  <a:pt x="15465" y="10467"/>
                  <a:pt x="15582" y="10398"/>
                  <a:pt x="15701" y="10344"/>
                </a:cubicBezTo>
              </a:path>
              <a:path w="348" h="547">
                <a:moveTo>
                  <a:pt x="15553" y="10145"/>
                </a:moveTo>
                <a:cubicBezTo>
                  <a:pt x="15553" y="10319"/>
                  <a:pt x="15521" y="10536"/>
                  <a:pt x="15577" y="10691"/>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6018120" y="3625920"/>
            <a:ext cx="162000" cy="179280"/>
          </a:xfrm>
          <a:custGeom>
            <a:avLst/>
            <a:gdLst/>
            <a:ahLst/>
            <a:rect l="l" t="t" r="r" b="b"/>
            <a:pathLst>
              <a:path w="448" h="497">
                <a:moveTo>
                  <a:pt x="16743" y="10071"/>
                </a:moveTo>
                <a:cubicBezTo>
                  <a:pt x="16733" y="10198"/>
                  <a:pt x="16697" y="10347"/>
                  <a:pt x="16768" y="10468"/>
                </a:cubicBezTo>
                <a:cubicBezTo>
                  <a:pt x="16864" y="10630"/>
                  <a:pt x="17026" y="10474"/>
                  <a:pt x="17115" y="10393"/>
                </a:cubicBezTo>
                <a:cubicBezTo>
                  <a:pt x="17132" y="10377"/>
                  <a:pt x="17148" y="10360"/>
                  <a:pt x="17165" y="10344"/>
                </a:cubicBezTo>
                <a:cubicBezTo>
                  <a:pt x="17051" y="10356"/>
                  <a:pt x="17003" y="10401"/>
                  <a:pt x="16966" y="10517"/>
                </a:cubicBezTo>
                <a:cubicBezTo>
                  <a:pt x="16966" y="10534"/>
                  <a:pt x="16966" y="10550"/>
                  <a:pt x="16966" y="10567"/>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6572160" y="3625920"/>
            <a:ext cx="115920" cy="214200"/>
          </a:xfrm>
          <a:custGeom>
            <a:avLst/>
            <a:gdLst/>
            <a:ahLst/>
            <a:rect l="l" t="t" r="r" b="b"/>
            <a:pathLst>
              <a:path w="324" h="596">
                <a:moveTo>
                  <a:pt x="18529" y="10071"/>
                </a:moveTo>
                <a:cubicBezTo>
                  <a:pt x="18444" y="10085"/>
                  <a:pt x="18364" y="10103"/>
                  <a:pt x="18306" y="10170"/>
                </a:cubicBezTo>
                <a:cubicBezTo>
                  <a:pt x="18148" y="10352"/>
                  <a:pt x="18360" y="10355"/>
                  <a:pt x="18479" y="10418"/>
                </a:cubicBezTo>
                <a:cubicBezTo>
                  <a:pt x="18566" y="10482"/>
                  <a:pt x="18599" y="10490"/>
                  <a:pt x="18579" y="10567"/>
                </a:cubicBezTo>
                <a:cubicBezTo>
                  <a:pt x="18505" y="10640"/>
                  <a:pt x="18481" y="10665"/>
                  <a:pt x="18405" y="10666"/>
                </a:cubicBezTo>
                <a:cubicBezTo>
                  <a:pt x="18302" y="10446"/>
                  <a:pt x="18461" y="10392"/>
                  <a:pt x="18554" y="10170"/>
                </a:cubicBezTo>
                <a:cubicBezTo>
                  <a:pt x="18554" y="10120"/>
                  <a:pt x="18554" y="10103"/>
                  <a:pt x="18504" y="10120"/>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035840" y="3679920"/>
            <a:ext cx="216000" cy="150840"/>
          </a:xfrm>
          <a:custGeom>
            <a:avLst/>
            <a:gdLst/>
            <a:ahLst/>
            <a:rect l="l" t="t" r="r" b="b"/>
            <a:pathLst>
              <a:path w="596" h="422">
                <a:moveTo>
                  <a:pt x="19546" y="10244"/>
                </a:moveTo>
                <a:cubicBezTo>
                  <a:pt x="19615" y="10381"/>
                  <a:pt x="19654" y="10487"/>
                  <a:pt x="19670" y="10641"/>
                </a:cubicBezTo>
              </a:path>
              <a:path w="596" h="422">
                <a:moveTo>
                  <a:pt x="19918" y="10220"/>
                </a:moveTo>
                <a:cubicBezTo>
                  <a:pt x="19861" y="10351"/>
                  <a:pt x="19852" y="10379"/>
                  <a:pt x="19869" y="10517"/>
                </a:cubicBezTo>
                <a:cubicBezTo>
                  <a:pt x="19954" y="10517"/>
                  <a:pt x="20234" y="10456"/>
                  <a:pt x="20117" y="10294"/>
                </a:cubicBezTo>
                <a:cubicBezTo>
                  <a:pt x="20023" y="10224"/>
                  <a:pt x="19997" y="10198"/>
                  <a:pt x="19918" y="10244"/>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527960" y="3643200"/>
            <a:ext cx="250920" cy="142920"/>
          </a:xfrm>
          <a:custGeom>
            <a:avLst/>
            <a:gdLst/>
            <a:ahLst/>
            <a:rect l="l" t="t" r="r" b="b"/>
            <a:pathLst>
              <a:path w="696" h="398">
                <a:moveTo>
                  <a:pt x="20910" y="10170"/>
                </a:moveTo>
                <a:cubicBezTo>
                  <a:pt x="21009" y="10284"/>
                  <a:pt x="21054" y="10380"/>
                  <a:pt x="21109" y="10517"/>
                </a:cubicBezTo>
              </a:path>
              <a:path w="696" h="398">
                <a:moveTo>
                  <a:pt x="21183" y="10145"/>
                </a:moveTo>
                <a:cubicBezTo>
                  <a:pt x="21283" y="10137"/>
                  <a:pt x="21331" y="10131"/>
                  <a:pt x="21431" y="10145"/>
                </a:cubicBezTo>
                <a:cubicBezTo>
                  <a:pt x="21413" y="10288"/>
                  <a:pt x="21362" y="10353"/>
                  <a:pt x="21282" y="10468"/>
                </a:cubicBezTo>
                <a:cubicBezTo>
                  <a:pt x="21392" y="10446"/>
                  <a:pt x="21492" y="10389"/>
                  <a:pt x="21605" y="10368"/>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a:off x="8126280" y="3598920"/>
            <a:ext cx="187560" cy="223920"/>
          </a:xfrm>
          <a:custGeom>
            <a:avLst/>
            <a:gdLst/>
            <a:ahLst/>
            <a:rect l="l" t="t" r="r" b="b"/>
            <a:pathLst>
              <a:path w="522" h="621">
                <a:moveTo>
                  <a:pt x="22572" y="10195"/>
                </a:moveTo>
                <a:cubicBezTo>
                  <a:pt x="22617" y="10345"/>
                  <a:pt x="22668" y="10481"/>
                  <a:pt x="22746" y="10616"/>
                </a:cubicBezTo>
              </a:path>
              <a:path w="522" h="621">
                <a:moveTo>
                  <a:pt x="22820" y="10220"/>
                </a:moveTo>
                <a:cubicBezTo>
                  <a:pt x="22839" y="10314"/>
                  <a:pt x="22825" y="10334"/>
                  <a:pt x="22870" y="10368"/>
                </a:cubicBezTo>
                <a:cubicBezTo>
                  <a:pt x="22947" y="10339"/>
                  <a:pt x="23019" y="10306"/>
                  <a:pt x="23093" y="10269"/>
                </a:cubicBezTo>
              </a:path>
              <a:path w="522" h="621">
                <a:moveTo>
                  <a:pt x="22944" y="9996"/>
                </a:moveTo>
                <a:cubicBezTo>
                  <a:pt x="22944" y="10165"/>
                  <a:pt x="22947" y="10312"/>
                  <a:pt x="23019" y="10468"/>
                </a:cubicBezTo>
                <a:cubicBezTo>
                  <a:pt x="23056" y="10524"/>
                  <a:pt x="23073" y="10528"/>
                  <a:pt x="23068" y="10567"/>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2874960" y="4027320"/>
            <a:ext cx="652320" cy="544680"/>
          </a:xfrm>
          <a:custGeom>
            <a:avLst/>
            <a:gdLst/>
            <a:ahLst/>
            <a:rect l="l" t="t" r="r" b="b"/>
            <a:pathLst>
              <a:path w="1812" h="1514">
                <a:moveTo>
                  <a:pt x="8285" y="11212"/>
                </a:moveTo>
                <a:cubicBezTo>
                  <a:pt x="8095" y="11525"/>
                  <a:pt x="7887" y="11914"/>
                  <a:pt x="7987" y="12303"/>
                </a:cubicBezTo>
                <a:cubicBezTo>
                  <a:pt x="8072" y="12409"/>
                  <a:pt x="8086" y="12438"/>
                  <a:pt x="8161" y="12477"/>
                </a:cubicBezTo>
              </a:path>
              <a:path w="1812" h="1514">
                <a:moveTo>
                  <a:pt x="8161" y="12204"/>
                </a:moveTo>
                <a:cubicBezTo>
                  <a:pt x="8235" y="12138"/>
                  <a:pt x="8289" y="12125"/>
                  <a:pt x="8384" y="12105"/>
                </a:cubicBezTo>
                <a:cubicBezTo>
                  <a:pt x="8392" y="12105"/>
                  <a:pt x="8401" y="12105"/>
                  <a:pt x="8409" y="12105"/>
                </a:cubicBezTo>
              </a:path>
              <a:path w="1812" h="1514">
                <a:moveTo>
                  <a:pt x="8582" y="11733"/>
                </a:moveTo>
                <a:cubicBezTo>
                  <a:pt x="8539" y="11926"/>
                  <a:pt x="8484" y="12114"/>
                  <a:pt x="8434" y="12303"/>
                </a:cubicBezTo>
                <a:cubicBezTo>
                  <a:pt x="8434" y="12311"/>
                  <a:pt x="8434" y="12320"/>
                  <a:pt x="8434" y="12328"/>
                </a:cubicBezTo>
              </a:path>
              <a:path w="1812" h="1514">
                <a:moveTo>
                  <a:pt x="8806" y="12378"/>
                </a:moveTo>
                <a:cubicBezTo>
                  <a:pt x="8780" y="12550"/>
                  <a:pt x="8765" y="12613"/>
                  <a:pt x="8607" y="12700"/>
                </a:cubicBezTo>
              </a:path>
              <a:path w="1812" h="1514">
                <a:moveTo>
                  <a:pt x="9029" y="12005"/>
                </a:moveTo>
                <a:cubicBezTo>
                  <a:pt x="9079" y="11987"/>
                  <a:pt x="9100" y="11981"/>
                  <a:pt x="9153" y="11981"/>
                </a:cubicBezTo>
              </a:path>
              <a:path w="1812" h="1514">
                <a:moveTo>
                  <a:pt x="9401" y="11708"/>
                </a:moveTo>
                <a:cubicBezTo>
                  <a:pt x="9369" y="11889"/>
                  <a:pt x="9339" y="12071"/>
                  <a:pt x="9327" y="12254"/>
                </a:cubicBezTo>
              </a:path>
              <a:path w="1812" h="1514">
                <a:moveTo>
                  <a:pt x="9500" y="11187"/>
                </a:moveTo>
                <a:cubicBezTo>
                  <a:pt x="9639" y="11360"/>
                  <a:pt x="9784" y="11574"/>
                  <a:pt x="9798" y="11807"/>
                </a:cubicBezTo>
                <a:cubicBezTo>
                  <a:pt x="9815" y="12089"/>
                  <a:pt x="9706" y="12325"/>
                  <a:pt x="9525" y="12526"/>
                </a:cubicBezTo>
                <a:cubicBezTo>
                  <a:pt x="9517" y="12534"/>
                  <a:pt x="9508" y="12543"/>
                  <a:pt x="9500" y="12551"/>
                </a:cubicBezTo>
              </a:path>
              <a:path w="1812" h="1514">
                <a:moveTo>
                  <a:pt x="8632" y="12328"/>
                </a:moveTo>
                <a:cubicBezTo>
                  <a:pt x="8632" y="12336"/>
                  <a:pt x="8632" y="12345"/>
                  <a:pt x="8632" y="12353"/>
                </a:cubicBezTo>
              </a:path>
              <a:path w="1812" h="1514">
                <a:moveTo>
                  <a:pt x="8781" y="11857"/>
                </a:moveTo>
                <a:cubicBezTo>
                  <a:pt x="8731" y="11970"/>
                  <a:pt x="8627" y="11961"/>
                  <a:pt x="8682" y="12105"/>
                </a:cubicBezTo>
                <a:cubicBezTo>
                  <a:pt x="8705" y="12165"/>
                  <a:pt x="8757" y="12099"/>
                  <a:pt x="8781" y="12080"/>
                </a:cubicBezTo>
                <a:cubicBezTo>
                  <a:pt x="8820" y="12144"/>
                  <a:pt x="8804" y="12169"/>
                  <a:pt x="8756" y="12229"/>
                </a:cubicBezTo>
              </a:path>
              <a:path w="1812" h="1514">
                <a:moveTo>
                  <a:pt x="8756" y="12229"/>
                </a:moveTo>
                <a:lnTo>
                  <a:pt x="8756" y="12229"/>
                </a:ln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3544920" y="2017800"/>
            <a:ext cx="571320" cy="376200"/>
          </a:xfrm>
          <a:custGeom>
            <a:avLst/>
            <a:gdLst/>
            <a:ahLst/>
            <a:rect l="l" t="t" r="r" b="b"/>
            <a:pathLst>
              <a:path w="1589" h="1043">
                <a:moveTo>
                  <a:pt x="10046" y="5606"/>
                </a:moveTo>
                <a:cubicBezTo>
                  <a:pt x="9965" y="5875"/>
                  <a:pt x="9802" y="6134"/>
                  <a:pt x="9847" y="6424"/>
                </a:cubicBezTo>
                <a:cubicBezTo>
                  <a:pt x="9869" y="6566"/>
                  <a:pt x="9938" y="6599"/>
                  <a:pt x="10046" y="6623"/>
                </a:cubicBezTo>
              </a:path>
              <a:path w="1589" h="1043">
                <a:moveTo>
                  <a:pt x="10120" y="6028"/>
                </a:moveTo>
                <a:cubicBezTo>
                  <a:pt x="10246" y="6047"/>
                  <a:pt x="10197" y="6041"/>
                  <a:pt x="10294" y="6028"/>
                </a:cubicBezTo>
              </a:path>
              <a:path w="1589" h="1043">
                <a:moveTo>
                  <a:pt x="10418" y="5879"/>
                </a:moveTo>
                <a:cubicBezTo>
                  <a:pt x="10492" y="5860"/>
                  <a:pt x="10499" y="5852"/>
                  <a:pt x="10542" y="5854"/>
                </a:cubicBezTo>
                <a:cubicBezTo>
                  <a:pt x="10571" y="6096"/>
                  <a:pt x="10487" y="6186"/>
                  <a:pt x="10344" y="6375"/>
                </a:cubicBezTo>
                <a:cubicBezTo>
                  <a:pt x="10327" y="6400"/>
                  <a:pt x="10311" y="6424"/>
                  <a:pt x="10294" y="6449"/>
                </a:cubicBezTo>
                <a:cubicBezTo>
                  <a:pt x="10410" y="6449"/>
                  <a:pt x="10505" y="6431"/>
                  <a:pt x="10616" y="6400"/>
                </a:cubicBezTo>
              </a:path>
              <a:path w="1589" h="1043">
                <a:moveTo>
                  <a:pt x="10765" y="6350"/>
                </a:moveTo>
                <a:cubicBezTo>
                  <a:pt x="10765" y="6441"/>
                  <a:pt x="10765" y="6532"/>
                  <a:pt x="10765" y="6623"/>
                </a:cubicBezTo>
              </a:path>
              <a:path w="1589" h="1043">
                <a:moveTo>
                  <a:pt x="10914" y="5953"/>
                </a:moveTo>
                <a:cubicBezTo>
                  <a:pt x="10914" y="6125"/>
                  <a:pt x="10924" y="6116"/>
                  <a:pt x="11088" y="6102"/>
                </a:cubicBezTo>
                <a:cubicBezTo>
                  <a:pt x="11104" y="6102"/>
                  <a:pt x="11121" y="6102"/>
                  <a:pt x="11137" y="6102"/>
                </a:cubicBezTo>
              </a:path>
              <a:path w="1589" h="1043">
                <a:moveTo>
                  <a:pt x="11162" y="5879"/>
                </a:moveTo>
                <a:cubicBezTo>
                  <a:pt x="11143" y="6047"/>
                  <a:pt x="11137" y="6206"/>
                  <a:pt x="11137" y="6375"/>
                </a:cubicBezTo>
              </a:path>
              <a:path w="1589" h="1043">
                <a:moveTo>
                  <a:pt x="11187" y="5631"/>
                </a:moveTo>
                <a:cubicBezTo>
                  <a:pt x="11364" y="5709"/>
                  <a:pt x="11378" y="5891"/>
                  <a:pt x="11410" y="6077"/>
                </a:cubicBezTo>
                <a:cubicBezTo>
                  <a:pt x="11441" y="6257"/>
                  <a:pt x="11448" y="6478"/>
                  <a:pt x="11311" y="6623"/>
                </a:cubicBezTo>
                <a:cubicBezTo>
                  <a:pt x="11294" y="6631"/>
                  <a:pt x="11278" y="6640"/>
                  <a:pt x="11261" y="6648"/>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5875200" y="4537080"/>
            <a:ext cx="679680" cy="428760"/>
          </a:xfrm>
          <a:custGeom>
            <a:avLst/>
            <a:gdLst/>
            <a:ahLst/>
            <a:rect l="l" t="t" r="r" b="b"/>
            <a:pathLst>
              <a:path w="1887" h="1191">
                <a:moveTo>
                  <a:pt x="16545" y="12601"/>
                </a:moveTo>
                <a:cubicBezTo>
                  <a:pt x="16470" y="12775"/>
                  <a:pt x="16379" y="12890"/>
                  <a:pt x="16346" y="13097"/>
                </a:cubicBezTo>
                <a:cubicBezTo>
                  <a:pt x="16303" y="13367"/>
                  <a:pt x="16340" y="13451"/>
                  <a:pt x="16470" y="13667"/>
                </a:cubicBezTo>
              </a:path>
              <a:path w="1887" h="1191">
                <a:moveTo>
                  <a:pt x="16644" y="12973"/>
                </a:moveTo>
                <a:cubicBezTo>
                  <a:pt x="16745" y="12899"/>
                  <a:pt x="16777" y="12868"/>
                  <a:pt x="16892" y="12849"/>
                </a:cubicBezTo>
                <a:cubicBezTo>
                  <a:pt x="16908" y="13116"/>
                  <a:pt x="16762" y="13197"/>
                  <a:pt x="16570" y="13370"/>
                </a:cubicBezTo>
                <a:cubicBezTo>
                  <a:pt x="16385" y="13537"/>
                  <a:pt x="16732" y="13417"/>
                  <a:pt x="16818" y="13395"/>
                </a:cubicBezTo>
              </a:path>
              <a:path w="1887" h="1191">
                <a:moveTo>
                  <a:pt x="17090" y="13568"/>
                </a:moveTo>
                <a:cubicBezTo>
                  <a:pt x="17049" y="13692"/>
                  <a:pt x="17041" y="13717"/>
                  <a:pt x="17016" y="13791"/>
                </a:cubicBezTo>
              </a:path>
              <a:path w="1887" h="1191">
                <a:moveTo>
                  <a:pt x="17239" y="13271"/>
                </a:moveTo>
                <a:cubicBezTo>
                  <a:pt x="17313" y="13271"/>
                  <a:pt x="17369" y="13267"/>
                  <a:pt x="17438" y="13246"/>
                </a:cubicBezTo>
              </a:path>
              <a:path w="1887" h="1191">
                <a:moveTo>
                  <a:pt x="17611" y="12998"/>
                </a:moveTo>
                <a:cubicBezTo>
                  <a:pt x="17701" y="12975"/>
                  <a:pt x="17724" y="12969"/>
                  <a:pt x="17810" y="12998"/>
                </a:cubicBezTo>
                <a:cubicBezTo>
                  <a:pt x="17769" y="13086"/>
                  <a:pt x="17727" y="13148"/>
                  <a:pt x="17661" y="13221"/>
                </a:cubicBezTo>
                <a:cubicBezTo>
                  <a:pt x="17765" y="13176"/>
                  <a:pt x="17912" y="13184"/>
                  <a:pt x="17884" y="13345"/>
                </a:cubicBezTo>
                <a:cubicBezTo>
                  <a:pt x="17846" y="13562"/>
                  <a:pt x="17647" y="13463"/>
                  <a:pt x="17512" y="13444"/>
                </a:cubicBezTo>
                <a:cubicBezTo>
                  <a:pt x="17495" y="13444"/>
                  <a:pt x="17479" y="13444"/>
                  <a:pt x="17462" y="13444"/>
                </a:cubicBezTo>
              </a:path>
              <a:path w="1887" h="1191">
                <a:moveTo>
                  <a:pt x="17909" y="12601"/>
                </a:moveTo>
                <a:cubicBezTo>
                  <a:pt x="18157" y="12733"/>
                  <a:pt x="18248" y="12948"/>
                  <a:pt x="18207" y="13246"/>
                </a:cubicBezTo>
                <a:cubicBezTo>
                  <a:pt x="18176" y="13474"/>
                  <a:pt x="18082" y="13594"/>
                  <a:pt x="17934" y="13742"/>
                </a:cubicBezTo>
              </a:path>
              <a:path w="1887" h="1191">
                <a:moveTo>
                  <a:pt x="16966" y="13419"/>
                </a:moveTo>
                <a:lnTo>
                  <a:pt x="16966" y="13419"/>
                </a:ln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4375080" y="1347840"/>
            <a:ext cx="206280" cy="617400"/>
          </a:xfrm>
          <a:custGeom>
            <a:avLst/>
            <a:gdLst/>
            <a:ahLst/>
            <a:rect l="l" t="t" r="r" b="b"/>
            <a:pathLst>
              <a:path w="572" h="1712">
                <a:moveTo>
                  <a:pt x="12477" y="4812"/>
                </a:moveTo>
                <a:cubicBezTo>
                  <a:pt x="12375" y="4876"/>
                  <a:pt x="12306" y="4948"/>
                  <a:pt x="12254" y="5060"/>
                </a:cubicBezTo>
                <a:cubicBezTo>
                  <a:pt x="12246" y="5085"/>
                  <a:pt x="12237" y="5110"/>
                  <a:pt x="12229" y="5135"/>
                </a:cubicBezTo>
                <a:cubicBezTo>
                  <a:pt x="12363" y="5202"/>
                  <a:pt x="12587" y="5226"/>
                  <a:pt x="12601" y="5407"/>
                </a:cubicBezTo>
                <a:cubicBezTo>
                  <a:pt x="12593" y="5424"/>
                  <a:pt x="12584" y="5440"/>
                  <a:pt x="12576" y="5457"/>
                </a:cubicBezTo>
                <a:cubicBezTo>
                  <a:pt x="12318" y="5402"/>
                  <a:pt x="12439" y="5163"/>
                  <a:pt x="12452" y="4936"/>
                </a:cubicBezTo>
                <a:cubicBezTo>
                  <a:pt x="12452" y="4903"/>
                  <a:pt x="12452" y="4870"/>
                  <a:pt x="12452" y="4837"/>
                </a:cubicBezTo>
              </a:path>
              <a:path w="572" h="1712">
                <a:moveTo>
                  <a:pt x="12154" y="3795"/>
                </a:moveTo>
                <a:cubicBezTo>
                  <a:pt x="12185" y="3951"/>
                  <a:pt x="12221" y="4109"/>
                  <a:pt x="12254" y="4266"/>
                </a:cubicBezTo>
              </a:path>
              <a:path w="572" h="1712">
                <a:moveTo>
                  <a:pt x="12502" y="3795"/>
                </a:moveTo>
                <a:cubicBezTo>
                  <a:pt x="12507" y="3956"/>
                  <a:pt x="12462" y="4155"/>
                  <a:pt x="12626" y="4217"/>
                </a:cubicBezTo>
                <a:cubicBezTo>
                  <a:pt x="12693" y="4082"/>
                  <a:pt x="12845" y="3737"/>
                  <a:pt x="12551" y="3746"/>
                </a:cubicBezTo>
                <a:cubicBezTo>
                  <a:pt x="12526" y="3762"/>
                  <a:pt x="12502" y="3779"/>
                  <a:pt x="12477" y="3795"/>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6456240" y="1465200"/>
            <a:ext cx="554040" cy="473040"/>
          </a:xfrm>
          <a:custGeom>
            <a:avLst/>
            <a:gdLst/>
            <a:ahLst/>
            <a:rect l="l" t="t" r="r" b="b"/>
            <a:pathLst>
              <a:path w="1539" h="1316">
                <a:moveTo>
                  <a:pt x="17934" y="5383"/>
                </a:moveTo>
                <a:cubicBezTo>
                  <a:pt x="18205" y="5110"/>
                  <a:pt x="18295" y="4708"/>
                  <a:pt x="18405" y="4341"/>
                </a:cubicBezTo>
                <a:cubicBezTo>
                  <a:pt x="18413" y="4300"/>
                  <a:pt x="18422" y="4258"/>
                  <a:pt x="18430" y="4217"/>
                </a:cubicBezTo>
                <a:cubicBezTo>
                  <a:pt x="18585" y="4492"/>
                  <a:pt x="18690" y="4788"/>
                  <a:pt x="18802" y="5085"/>
                </a:cubicBezTo>
              </a:path>
              <a:path w="1539" h="1316">
                <a:moveTo>
                  <a:pt x="18231" y="4936"/>
                </a:moveTo>
                <a:cubicBezTo>
                  <a:pt x="18506" y="4849"/>
                  <a:pt x="18779" y="4761"/>
                  <a:pt x="18926" y="4490"/>
                </a:cubicBezTo>
                <a:cubicBezTo>
                  <a:pt x="18983" y="4385"/>
                  <a:pt x="18815" y="4274"/>
                  <a:pt x="18901" y="4192"/>
                </a:cubicBezTo>
                <a:cubicBezTo>
                  <a:pt x="19101" y="4000"/>
                  <a:pt x="19072" y="4719"/>
                  <a:pt x="19149" y="4986"/>
                </a:cubicBezTo>
              </a:path>
              <a:path w="1539" h="1316">
                <a:moveTo>
                  <a:pt x="19124" y="4068"/>
                </a:moveTo>
                <a:cubicBezTo>
                  <a:pt x="19265" y="4332"/>
                  <a:pt x="19373" y="4579"/>
                  <a:pt x="19472" y="4862"/>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a:off x="7259760" y="955800"/>
            <a:ext cx="947520" cy="679320"/>
          </a:xfrm>
          <a:custGeom>
            <a:avLst/>
            <a:gdLst/>
            <a:ahLst/>
            <a:rect l="l" t="t" r="r" b="b"/>
            <a:pathLst>
              <a:path w="2631" h="1886">
                <a:moveTo>
                  <a:pt x="20166" y="4167"/>
                </a:moveTo>
                <a:cubicBezTo>
                  <a:pt x="20275" y="4331"/>
                  <a:pt x="20331" y="4438"/>
                  <a:pt x="20489" y="4539"/>
                </a:cubicBezTo>
                <a:cubicBezTo>
                  <a:pt x="20523" y="4375"/>
                  <a:pt x="20521" y="4265"/>
                  <a:pt x="20489" y="4093"/>
                </a:cubicBezTo>
                <a:cubicBezTo>
                  <a:pt x="20575" y="4212"/>
                  <a:pt x="20799" y="4489"/>
                  <a:pt x="20935" y="4242"/>
                </a:cubicBezTo>
                <a:cubicBezTo>
                  <a:pt x="21101" y="3940"/>
                  <a:pt x="20819" y="3828"/>
                  <a:pt x="20613" y="3919"/>
                </a:cubicBezTo>
              </a:path>
              <a:path w="2631" h="1886">
                <a:moveTo>
                  <a:pt x="21183" y="3621"/>
                </a:moveTo>
                <a:cubicBezTo>
                  <a:pt x="21062" y="3866"/>
                  <a:pt x="21079" y="3896"/>
                  <a:pt x="21158" y="4142"/>
                </a:cubicBezTo>
                <a:cubicBezTo>
                  <a:pt x="21356" y="4095"/>
                  <a:pt x="21755" y="3818"/>
                  <a:pt x="21307" y="3671"/>
                </a:cubicBezTo>
                <a:cubicBezTo>
                  <a:pt x="21241" y="3679"/>
                  <a:pt x="21175" y="3688"/>
                  <a:pt x="21109" y="3696"/>
                </a:cubicBezTo>
              </a:path>
              <a:path w="2631" h="1886">
                <a:moveTo>
                  <a:pt x="21530" y="3547"/>
                </a:moveTo>
                <a:cubicBezTo>
                  <a:pt x="21546" y="3582"/>
                  <a:pt x="21799" y="4246"/>
                  <a:pt x="21853" y="3919"/>
                </a:cubicBezTo>
                <a:cubicBezTo>
                  <a:pt x="21853" y="3845"/>
                  <a:pt x="21853" y="3770"/>
                  <a:pt x="21853" y="3696"/>
                </a:cubicBezTo>
                <a:cubicBezTo>
                  <a:pt x="21798" y="3458"/>
                  <a:pt x="21864" y="3707"/>
                  <a:pt x="21977" y="3795"/>
                </a:cubicBezTo>
                <a:cubicBezTo>
                  <a:pt x="22280" y="3561"/>
                  <a:pt x="22279" y="3351"/>
                  <a:pt x="22027" y="3026"/>
                </a:cubicBezTo>
                <a:cubicBezTo>
                  <a:pt x="21930" y="2948"/>
                  <a:pt x="21904" y="2885"/>
                  <a:pt x="21878" y="2977"/>
                </a:cubicBezTo>
                <a:cubicBezTo>
                  <a:pt x="21980" y="3203"/>
                  <a:pt x="22086" y="3392"/>
                  <a:pt x="22225" y="3597"/>
                </a:cubicBezTo>
              </a:path>
              <a:path w="2631" h="1886">
                <a:moveTo>
                  <a:pt x="22721" y="3249"/>
                </a:moveTo>
                <a:cubicBezTo>
                  <a:pt x="22581" y="3152"/>
                  <a:pt x="22370" y="3180"/>
                  <a:pt x="22374" y="3423"/>
                </a:cubicBezTo>
                <a:cubicBezTo>
                  <a:pt x="22447" y="3569"/>
                  <a:pt x="22468" y="3618"/>
                  <a:pt x="22597" y="3621"/>
                </a:cubicBezTo>
                <a:cubicBezTo>
                  <a:pt x="22857" y="3253"/>
                  <a:pt x="22744" y="3053"/>
                  <a:pt x="22523" y="2654"/>
                </a:cubicBezTo>
                <a:cubicBezTo>
                  <a:pt x="22596" y="2929"/>
                  <a:pt x="22692" y="3183"/>
                  <a:pt x="22796" y="3448"/>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a:off x="4429080" y="2232000"/>
            <a:ext cx="135000" cy="214200"/>
          </a:xfrm>
          <a:custGeom>
            <a:avLst/>
            <a:gdLst/>
            <a:ahLst/>
            <a:rect l="l" t="t" r="r" b="b"/>
            <a:pathLst>
              <a:path w="373" h="596">
                <a:moveTo>
                  <a:pt x="12303" y="6201"/>
                </a:moveTo>
                <a:cubicBezTo>
                  <a:pt x="12325" y="6361"/>
                  <a:pt x="12315" y="6522"/>
                  <a:pt x="12378" y="6672"/>
                </a:cubicBezTo>
                <a:cubicBezTo>
                  <a:pt x="12436" y="6810"/>
                  <a:pt x="12563" y="6733"/>
                  <a:pt x="12626" y="6648"/>
                </a:cubicBezTo>
                <a:cubicBezTo>
                  <a:pt x="12696" y="6554"/>
                  <a:pt x="12683" y="6476"/>
                  <a:pt x="12626" y="6400"/>
                </a:cubicBezTo>
                <a:cubicBezTo>
                  <a:pt x="12542" y="6482"/>
                  <a:pt x="12464" y="6638"/>
                  <a:pt x="12526" y="6772"/>
                </a:cubicBezTo>
                <a:cubicBezTo>
                  <a:pt x="12543" y="6780"/>
                  <a:pt x="12559" y="6788"/>
                  <a:pt x="12576" y="6796"/>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a:off x="6518160" y="1731960"/>
            <a:ext cx="1135080" cy="733320"/>
          </a:xfrm>
          <a:custGeom>
            <a:avLst/>
            <a:gdLst/>
            <a:ahLst/>
            <a:rect l="l" t="t" r="r" b="b"/>
            <a:pathLst>
              <a:path w="3152" h="2035">
                <a:moveTo>
                  <a:pt x="18678" y="6474"/>
                </a:moveTo>
                <a:cubicBezTo>
                  <a:pt x="18570" y="6354"/>
                  <a:pt x="18364" y="6166"/>
                  <a:pt x="18182" y="6176"/>
                </a:cubicBezTo>
                <a:cubicBezTo>
                  <a:pt x="18157" y="6193"/>
                  <a:pt x="18132" y="6209"/>
                  <a:pt x="18107" y="6226"/>
                </a:cubicBezTo>
                <a:cubicBezTo>
                  <a:pt x="18138" y="6522"/>
                  <a:pt x="18164" y="6646"/>
                  <a:pt x="18355" y="6846"/>
                </a:cubicBezTo>
                <a:cubicBezTo>
                  <a:pt x="18728" y="6513"/>
                  <a:pt x="18712" y="6309"/>
                  <a:pt x="18529" y="5829"/>
                </a:cubicBezTo>
                <a:cubicBezTo>
                  <a:pt x="18521" y="5821"/>
                  <a:pt x="18512" y="5812"/>
                  <a:pt x="18504" y="5804"/>
                </a:cubicBezTo>
                <a:cubicBezTo>
                  <a:pt x="18623" y="6010"/>
                  <a:pt x="18746" y="6213"/>
                  <a:pt x="18852" y="6424"/>
                </a:cubicBezTo>
                <a:cubicBezTo>
                  <a:pt x="18835" y="6330"/>
                  <a:pt x="18658" y="5832"/>
                  <a:pt x="18951" y="5928"/>
                </a:cubicBezTo>
                <a:cubicBezTo>
                  <a:pt x="19118" y="5983"/>
                  <a:pt x="19262" y="6245"/>
                  <a:pt x="19397" y="6350"/>
                </a:cubicBezTo>
              </a:path>
              <a:path w="3152" h="2035">
                <a:moveTo>
                  <a:pt x="19397" y="5730"/>
                </a:moveTo>
                <a:cubicBezTo>
                  <a:pt x="19397" y="5805"/>
                  <a:pt x="19564" y="6504"/>
                  <a:pt x="19621" y="6028"/>
                </a:cubicBezTo>
                <a:cubicBezTo>
                  <a:pt x="19613" y="5945"/>
                  <a:pt x="19604" y="5862"/>
                  <a:pt x="19596" y="5779"/>
                </a:cubicBezTo>
                <a:cubicBezTo>
                  <a:pt x="19596" y="5754"/>
                  <a:pt x="19596" y="5730"/>
                  <a:pt x="19596" y="5705"/>
                </a:cubicBezTo>
                <a:cubicBezTo>
                  <a:pt x="19758" y="5962"/>
                  <a:pt x="19881" y="6024"/>
                  <a:pt x="19993" y="5680"/>
                </a:cubicBezTo>
                <a:cubicBezTo>
                  <a:pt x="20068" y="5449"/>
                  <a:pt x="20044" y="5583"/>
                  <a:pt x="20141" y="5779"/>
                </a:cubicBezTo>
                <a:cubicBezTo>
                  <a:pt x="20092" y="5603"/>
                  <a:pt x="20073" y="5515"/>
                  <a:pt x="20042" y="5333"/>
                </a:cubicBezTo>
                <a:cubicBezTo>
                  <a:pt x="20335" y="5306"/>
                  <a:pt x="20399" y="5437"/>
                  <a:pt x="20538" y="5705"/>
                </a:cubicBezTo>
              </a:path>
              <a:path w="3152" h="2035">
                <a:moveTo>
                  <a:pt x="20662" y="5085"/>
                </a:moveTo>
                <a:cubicBezTo>
                  <a:pt x="20598" y="5253"/>
                  <a:pt x="20454" y="5526"/>
                  <a:pt x="20662" y="5507"/>
                </a:cubicBezTo>
                <a:cubicBezTo>
                  <a:pt x="20722" y="5300"/>
                  <a:pt x="20738" y="5180"/>
                  <a:pt x="20712" y="4961"/>
                </a:cubicBezTo>
                <a:cubicBezTo>
                  <a:pt x="20904" y="5201"/>
                  <a:pt x="21189" y="5542"/>
                  <a:pt x="21059" y="5879"/>
                </a:cubicBezTo>
                <a:cubicBezTo>
                  <a:pt x="20913" y="6025"/>
                  <a:pt x="20867" y="6075"/>
                  <a:pt x="20712" y="6052"/>
                </a:cubicBezTo>
              </a:path>
              <a:path w="3152" h="2035">
                <a:moveTo>
                  <a:pt x="21034" y="5060"/>
                </a:moveTo>
                <a:cubicBezTo>
                  <a:pt x="21143" y="4974"/>
                  <a:pt x="21187" y="4929"/>
                  <a:pt x="21258" y="4812"/>
                </a:cubicBezTo>
                <a:cubicBezTo>
                  <a:pt x="21131" y="4864"/>
                  <a:pt x="20770" y="5133"/>
                  <a:pt x="21084" y="5283"/>
                </a:cubicBezTo>
                <a:cubicBezTo>
                  <a:pt x="21142" y="5283"/>
                  <a:pt x="21200" y="5283"/>
                  <a:pt x="21258" y="5283"/>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58080" y="1224000"/>
            <a:ext cx="768240" cy="490680"/>
          </a:xfrm>
          <a:custGeom>
            <a:avLst/>
            <a:gdLst/>
            <a:ahLst/>
            <a:rect l="l" t="t" r="r" b="b"/>
            <a:pathLst>
              <a:path w="2134" h="1365">
                <a:moveTo>
                  <a:pt x="21828" y="4465"/>
                </a:moveTo>
                <a:cubicBezTo>
                  <a:pt x="21843" y="4505"/>
                  <a:pt x="21976" y="4881"/>
                  <a:pt x="22051" y="4738"/>
                </a:cubicBezTo>
                <a:cubicBezTo>
                  <a:pt x="22100" y="4566"/>
                  <a:pt x="22117" y="4511"/>
                  <a:pt x="22101" y="4390"/>
                </a:cubicBezTo>
                <a:cubicBezTo>
                  <a:pt x="22231" y="4521"/>
                  <a:pt x="22269" y="4578"/>
                  <a:pt x="22448" y="4589"/>
                </a:cubicBezTo>
                <a:cubicBezTo>
                  <a:pt x="22437" y="4338"/>
                  <a:pt x="22404" y="4347"/>
                  <a:pt x="22200" y="4192"/>
                </a:cubicBezTo>
              </a:path>
              <a:path w="2134" h="1365">
                <a:moveTo>
                  <a:pt x="22423" y="3944"/>
                </a:moveTo>
                <a:cubicBezTo>
                  <a:pt x="22514" y="4110"/>
                  <a:pt x="22592" y="4287"/>
                  <a:pt x="22721" y="4415"/>
                </a:cubicBezTo>
                <a:cubicBezTo>
                  <a:pt x="22688" y="4232"/>
                  <a:pt x="22682" y="4157"/>
                  <a:pt x="22671" y="3969"/>
                </a:cubicBezTo>
                <a:cubicBezTo>
                  <a:pt x="22885" y="4030"/>
                  <a:pt x="22921" y="4102"/>
                  <a:pt x="23068" y="4291"/>
                </a:cubicBezTo>
              </a:path>
              <a:path w="2134" h="1365">
                <a:moveTo>
                  <a:pt x="22994" y="3969"/>
                </a:moveTo>
                <a:cubicBezTo>
                  <a:pt x="23059" y="3850"/>
                  <a:pt x="23084" y="3777"/>
                  <a:pt x="23118" y="3646"/>
                </a:cubicBezTo>
                <a:cubicBezTo>
                  <a:pt x="23086" y="3727"/>
                  <a:pt x="23013" y="4287"/>
                  <a:pt x="23267" y="3994"/>
                </a:cubicBezTo>
                <a:cubicBezTo>
                  <a:pt x="23376" y="3775"/>
                  <a:pt x="23400" y="3720"/>
                  <a:pt x="23490" y="3597"/>
                </a:cubicBezTo>
                <a:cubicBezTo>
                  <a:pt x="23520" y="3688"/>
                  <a:pt x="23549" y="3777"/>
                  <a:pt x="23564" y="3870"/>
                </a:cubicBezTo>
                <a:cubicBezTo>
                  <a:pt x="23536" y="3673"/>
                  <a:pt x="23540" y="3620"/>
                  <a:pt x="23564" y="3423"/>
                </a:cubicBezTo>
                <a:cubicBezTo>
                  <a:pt x="23787" y="3446"/>
                  <a:pt x="23807" y="3514"/>
                  <a:pt x="23961" y="3696"/>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4411800" y="2687760"/>
            <a:ext cx="106200" cy="214200"/>
          </a:xfrm>
          <a:custGeom>
            <a:avLst/>
            <a:gdLst/>
            <a:ahLst/>
            <a:rect l="l" t="t" r="r" b="b"/>
            <a:pathLst>
              <a:path w="298" h="597">
                <a:moveTo>
                  <a:pt x="12254" y="7466"/>
                </a:moveTo>
                <a:cubicBezTo>
                  <a:pt x="12284" y="7549"/>
                  <a:pt x="12278" y="7624"/>
                  <a:pt x="12278" y="7714"/>
                </a:cubicBezTo>
                <a:cubicBezTo>
                  <a:pt x="12278" y="7755"/>
                  <a:pt x="12278" y="7797"/>
                  <a:pt x="12278" y="7838"/>
                </a:cubicBezTo>
                <a:cubicBezTo>
                  <a:pt x="12445" y="7825"/>
                  <a:pt x="12453" y="7813"/>
                  <a:pt x="12526" y="7665"/>
                </a:cubicBezTo>
              </a:path>
              <a:path w="298" h="597">
                <a:moveTo>
                  <a:pt x="12452" y="7466"/>
                </a:moveTo>
                <a:cubicBezTo>
                  <a:pt x="12466" y="7672"/>
                  <a:pt x="12507" y="7861"/>
                  <a:pt x="12551" y="8062"/>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5607000" y="2598840"/>
            <a:ext cx="984240" cy="571320"/>
          </a:xfrm>
          <a:custGeom>
            <a:avLst/>
            <a:gdLst/>
            <a:ahLst/>
            <a:rect l="l" t="t" r="r" b="b"/>
            <a:pathLst>
              <a:path w="2730" h="1589">
                <a:moveTo>
                  <a:pt x="15875" y="8086"/>
                </a:moveTo>
                <a:cubicBezTo>
                  <a:pt x="15902" y="8246"/>
                  <a:pt x="15623" y="8013"/>
                  <a:pt x="15577" y="8235"/>
                </a:cubicBezTo>
                <a:cubicBezTo>
                  <a:pt x="15485" y="8677"/>
                  <a:pt x="15730" y="8726"/>
                  <a:pt x="16024" y="8806"/>
                </a:cubicBezTo>
                <a:cubicBezTo>
                  <a:pt x="16059" y="8726"/>
                  <a:pt x="16163" y="7650"/>
                  <a:pt x="15974" y="7838"/>
                </a:cubicBezTo>
                <a:cubicBezTo>
                  <a:pt x="15991" y="7879"/>
                  <a:pt x="16007" y="7921"/>
                  <a:pt x="16024" y="7962"/>
                </a:cubicBezTo>
                <a:cubicBezTo>
                  <a:pt x="16156" y="8134"/>
                  <a:pt x="16286" y="8315"/>
                  <a:pt x="16421" y="8483"/>
                </a:cubicBezTo>
                <a:cubicBezTo>
                  <a:pt x="16389" y="8441"/>
                  <a:pt x="16060" y="7784"/>
                  <a:pt x="16446" y="7962"/>
                </a:cubicBezTo>
                <a:cubicBezTo>
                  <a:pt x="16632" y="8149"/>
                  <a:pt x="16686" y="8202"/>
                  <a:pt x="16793" y="8334"/>
                </a:cubicBezTo>
              </a:path>
              <a:path w="2730" h="1589">
                <a:moveTo>
                  <a:pt x="16818" y="7789"/>
                </a:moveTo>
                <a:cubicBezTo>
                  <a:pt x="16720" y="7880"/>
                  <a:pt x="16515" y="8268"/>
                  <a:pt x="16842" y="8285"/>
                </a:cubicBezTo>
                <a:cubicBezTo>
                  <a:pt x="16993" y="8293"/>
                  <a:pt x="17013" y="7917"/>
                  <a:pt x="16917" y="7962"/>
                </a:cubicBezTo>
                <a:cubicBezTo>
                  <a:pt x="17169" y="8156"/>
                  <a:pt x="17154" y="8072"/>
                  <a:pt x="17214" y="7813"/>
                </a:cubicBezTo>
                <a:cubicBezTo>
                  <a:pt x="17248" y="7667"/>
                  <a:pt x="17326" y="7937"/>
                  <a:pt x="17338" y="7962"/>
                </a:cubicBezTo>
                <a:cubicBezTo>
                  <a:pt x="17278" y="7872"/>
                  <a:pt x="17088" y="7528"/>
                  <a:pt x="17388" y="7665"/>
                </a:cubicBezTo>
                <a:cubicBezTo>
                  <a:pt x="17524" y="7778"/>
                  <a:pt x="17566" y="7806"/>
                  <a:pt x="17611" y="7913"/>
                </a:cubicBezTo>
              </a:path>
              <a:path w="2730" h="1589">
                <a:moveTo>
                  <a:pt x="17661" y="7417"/>
                </a:moveTo>
                <a:cubicBezTo>
                  <a:pt x="17623" y="7482"/>
                  <a:pt x="17414" y="8107"/>
                  <a:pt x="17711" y="7938"/>
                </a:cubicBezTo>
                <a:cubicBezTo>
                  <a:pt x="17887" y="7838"/>
                  <a:pt x="17735" y="7625"/>
                  <a:pt x="17686" y="7516"/>
                </a:cubicBezTo>
                <a:cubicBezTo>
                  <a:pt x="17855" y="7732"/>
                  <a:pt x="18316" y="8113"/>
                  <a:pt x="17959" y="8384"/>
                </a:cubicBezTo>
                <a:cubicBezTo>
                  <a:pt x="17884" y="8409"/>
                  <a:pt x="17810" y="8433"/>
                  <a:pt x="17735" y="8458"/>
                </a:cubicBezTo>
              </a:path>
              <a:path w="2730" h="1589">
                <a:moveTo>
                  <a:pt x="17983" y="7466"/>
                </a:moveTo>
                <a:cubicBezTo>
                  <a:pt x="18125" y="7388"/>
                  <a:pt x="18266" y="7328"/>
                  <a:pt x="18083" y="7218"/>
                </a:cubicBezTo>
                <a:cubicBezTo>
                  <a:pt x="18026" y="7292"/>
                  <a:pt x="17708" y="7906"/>
                  <a:pt x="18083" y="7813"/>
                </a:cubicBezTo>
                <a:cubicBezTo>
                  <a:pt x="18157" y="7764"/>
                  <a:pt x="18232" y="7714"/>
                  <a:pt x="18306" y="7665"/>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6804000" y="2295360"/>
            <a:ext cx="420840" cy="312840"/>
          </a:xfrm>
          <a:custGeom>
            <a:avLst/>
            <a:gdLst/>
            <a:ahLst/>
            <a:rect l="l" t="t" r="r" b="b"/>
            <a:pathLst>
              <a:path w="1167" h="869">
                <a:moveTo>
                  <a:pt x="18901" y="6697"/>
                </a:moveTo>
                <a:cubicBezTo>
                  <a:pt x="19030" y="6892"/>
                  <a:pt x="19145" y="7069"/>
                  <a:pt x="19298" y="7243"/>
                </a:cubicBezTo>
              </a:path>
              <a:path w="1167" h="869">
                <a:moveTo>
                  <a:pt x="18901" y="7119"/>
                </a:moveTo>
                <a:cubicBezTo>
                  <a:pt x="19164" y="7048"/>
                  <a:pt x="19429" y="6978"/>
                  <a:pt x="19422" y="6648"/>
                </a:cubicBezTo>
                <a:cubicBezTo>
                  <a:pt x="19417" y="6421"/>
                  <a:pt x="19497" y="6813"/>
                  <a:pt x="19596" y="6970"/>
                </a:cubicBezTo>
                <a:cubicBezTo>
                  <a:pt x="19604" y="6978"/>
                  <a:pt x="19613" y="6987"/>
                  <a:pt x="19621" y="6995"/>
                </a:cubicBezTo>
                <a:cubicBezTo>
                  <a:pt x="19597" y="6943"/>
                  <a:pt x="19463" y="6623"/>
                  <a:pt x="19521" y="6672"/>
                </a:cubicBezTo>
                <a:cubicBezTo>
                  <a:pt x="19676" y="6803"/>
                  <a:pt x="19962" y="6931"/>
                  <a:pt x="20017" y="6598"/>
                </a:cubicBezTo>
                <a:cubicBezTo>
                  <a:pt x="20071" y="6273"/>
                  <a:pt x="19893" y="6389"/>
                  <a:pt x="20067" y="6697"/>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7392960" y="1446120"/>
            <a:ext cx="1270080" cy="804960"/>
          </a:xfrm>
          <a:custGeom>
            <a:avLst/>
            <a:gdLst/>
            <a:ahLst/>
            <a:rect l="l" t="t" r="r" b="b"/>
            <a:pathLst>
              <a:path w="3524" h="2234">
                <a:moveTo>
                  <a:pt x="20613" y="6127"/>
                </a:moveTo>
                <a:cubicBezTo>
                  <a:pt x="20663" y="6168"/>
                  <a:pt x="20712" y="6210"/>
                  <a:pt x="20762" y="6251"/>
                </a:cubicBezTo>
              </a:path>
              <a:path w="3524" h="2234">
                <a:moveTo>
                  <a:pt x="20538" y="5804"/>
                </a:moveTo>
                <a:lnTo>
                  <a:pt x="20538" y="5804"/>
                </a:lnTo>
              </a:path>
              <a:path w="3524" h="2234">
                <a:moveTo>
                  <a:pt x="21183" y="6127"/>
                </a:moveTo>
                <a:cubicBezTo>
                  <a:pt x="21218" y="6228"/>
                  <a:pt x="21042" y="5846"/>
                  <a:pt x="21134" y="5730"/>
                </a:cubicBezTo>
                <a:cubicBezTo>
                  <a:pt x="21288" y="5535"/>
                  <a:pt x="21497" y="5824"/>
                  <a:pt x="21580" y="5904"/>
                </a:cubicBezTo>
              </a:path>
              <a:path w="3524" h="2234">
                <a:moveTo>
                  <a:pt x="21406" y="5259"/>
                </a:moveTo>
                <a:cubicBezTo>
                  <a:pt x="21566" y="5465"/>
                  <a:pt x="21721" y="5672"/>
                  <a:pt x="21878" y="5879"/>
                </a:cubicBezTo>
              </a:path>
              <a:path w="3524" h="2234">
                <a:moveTo>
                  <a:pt x="21481" y="5631"/>
                </a:moveTo>
                <a:cubicBezTo>
                  <a:pt x="21672" y="5517"/>
                  <a:pt x="21829" y="5401"/>
                  <a:pt x="22002" y="5259"/>
                </a:cubicBezTo>
                <a:cubicBezTo>
                  <a:pt x="21969" y="5306"/>
                  <a:pt x="21774" y="5503"/>
                  <a:pt x="21977" y="5556"/>
                </a:cubicBezTo>
                <a:cubicBezTo>
                  <a:pt x="22155" y="5603"/>
                  <a:pt x="22149" y="5079"/>
                  <a:pt x="22299" y="5184"/>
                </a:cubicBezTo>
                <a:cubicBezTo>
                  <a:pt x="22344" y="5215"/>
                  <a:pt x="22405" y="5375"/>
                  <a:pt x="22473" y="5432"/>
                </a:cubicBezTo>
                <a:cubicBezTo>
                  <a:pt x="22376" y="5240"/>
                  <a:pt x="22370" y="5146"/>
                  <a:pt x="22399" y="4936"/>
                </a:cubicBezTo>
              </a:path>
              <a:path w="3524" h="2234">
                <a:moveTo>
                  <a:pt x="22671" y="4986"/>
                </a:moveTo>
                <a:cubicBezTo>
                  <a:pt x="22775" y="5090"/>
                  <a:pt x="22793" y="5115"/>
                  <a:pt x="22870" y="5159"/>
                </a:cubicBezTo>
                <a:cubicBezTo>
                  <a:pt x="22938" y="4958"/>
                  <a:pt x="22926" y="4756"/>
                  <a:pt x="22895" y="4539"/>
                </a:cubicBezTo>
              </a:path>
              <a:path w="3524" h="2234">
                <a:moveTo>
                  <a:pt x="23118" y="4490"/>
                </a:moveTo>
                <a:cubicBezTo>
                  <a:pt x="23073" y="4700"/>
                  <a:pt x="23043" y="4852"/>
                  <a:pt x="23143" y="5035"/>
                </a:cubicBezTo>
                <a:cubicBezTo>
                  <a:pt x="23219" y="4881"/>
                  <a:pt x="23230" y="4786"/>
                  <a:pt x="23242" y="4614"/>
                </a:cubicBezTo>
                <a:cubicBezTo>
                  <a:pt x="23242" y="4806"/>
                  <a:pt x="23374" y="4765"/>
                  <a:pt x="23515" y="4713"/>
                </a:cubicBezTo>
              </a:path>
              <a:path w="3524" h="2234">
                <a:moveTo>
                  <a:pt x="23515" y="4093"/>
                </a:moveTo>
                <a:cubicBezTo>
                  <a:pt x="23584" y="4339"/>
                  <a:pt x="23678" y="4543"/>
                  <a:pt x="23812" y="4762"/>
                </a:cubicBezTo>
              </a:path>
              <a:path w="3524" h="2234">
                <a:moveTo>
                  <a:pt x="23862" y="4018"/>
                </a:moveTo>
                <a:cubicBezTo>
                  <a:pt x="23778" y="4227"/>
                  <a:pt x="23811" y="4183"/>
                  <a:pt x="24011" y="4242"/>
                </a:cubicBezTo>
                <a:cubicBezTo>
                  <a:pt x="24151" y="4283"/>
                  <a:pt x="23844" y="4496"/>
                  <a:pt x="23788" y="4539"/>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4321080" y="3125880"/>
            <a:ext cx="287280" cy="1419120"/>
          </a:xfrm>
          <a:custGeom>
            <a:avLst/>
            <a:gdLst/>
            <a:ahLst/>
            <a:rect l="l" t="t" r="r" b="b"/>
            <a:pathLst>
              <a:path w="795" h="3945">
                <a:moveTo>
                  <a:pt x="12278" y="8806"/>
                </a:moveTo>
                <a:cubicBezTo>
                  <a:pt x="12278" y="8725"/>
                  <a:pt x="12293" y="8708"/>
                  <a:pt x="12378" y="8682"/>
                </a:cubicBezTo>
                <a:cubicBezTo>
                  <a:pt x="12524" y="8638"/>
                  <a:pt x="12513" y="8806"/>
                  <a:pt x="12502" y="8880"/>
                </a:cubicBezTo>
                <a:cubicBezTo>
                  <a:pt x="12476" y="9056"/>
                  <a:pt x="12349" y="9166"/>
                  <a:pt x="12303" y="9327"/>
                </a:cubicBezTo>
                <a:cubicBezTo>
                  <a:pt x="12303" y="9343"/>
                  <a:pt x="12303" y="9360"/>
                  <a:pt x="12303" y="9376"/>
                </a:cubicBezTo>
                <a:cubicBezTo>
                  <a:pt x="12422" y="9269"/>
                  <a:pt x="12572" y="9026"/>
                  <a:pt x="12725" y="8979"/>
                </a:cubicBezTo>
                <a:cubicBezTo>
                  <a:pt x="12750" y="8979"/>
                  <a:pt x="12774" y="8979"/>
                  <a:pt x="12799" y="8979"/>
                </a:cubicBezTo>
              </a:path>
              <a:path w="795" h="3945">
                <a:moveTo>
                  <a:pt x="12005" y="11162"/>
                </a:moveTo>
                <a:cubicBezTo>
                  <a:pt x="12086" y="11107"/>
                  <a:pt x="12136" y="11065"/>
                  <a:pt x="12229" y="11038"/>
                </a:cubicBezTo>
              </a:path>
              <a:path w="795" h="3945">
                <a:moveTo>
                  <a:pt x="12427" y="10864"/>
                </a:moveTo>
                <a:cubicBezTo>
                  <a:pt x="12475" y="10841"/>
                  <a:pt x="12490" y="10833"/>
                  <a:pt x="12526" y="10840"/>
                </a:cubicBezTo>
                <a:cubicBezTo>
                  <a:pt x="12621" y="10981"/>
                  <a:pt x="12532" y="11103"/>
                  <a:pt x="12477" y="11261"/>
                </a:cubicBezTo>
                <a:cubicBezTo>
                  <a:pt x="12469" y="11286"/>
                  <a:pt x="12460" y="11311"/>
                  <a:pt x="12452" y="11336"/>
                </a:cubicBezTo>
                <a:cubicBezTo>
                  <a:pt x="12616" y="11303"/>
                  <a:pt x="12615" y="11216"/>
                  <a:pt x="12725" y="11112"/>
                </a:cubicBezTo>
                <a:cubicBezTo>
                  <a:pt x="12765" y="11092"/>
                  <a:pt x="12772" y="11084"/>
                  <a:pt x="12799" y="11088"/>
                </a:cubicBezTo>
              </a:path>
              <a:path w="795" h="3945">
                <a:moveTo>
                  <a:pt x="12551" y="11857"/>
                </a:moveTo>
                <a:cubicBezTo>
                  <a:pt x="12564" y="12093"/>
                  <a:pt x="12576" y="12344"/>
                  <a:pt x="12626" y="12576"/>
                </a:cubicBezTo>
                <a:cubicBezTo>
                  <a:pt x="12634" y="12593"/>
                  <a:pt x="12642" y="12609"/>
                  <a:pt x="12650" y="12626"/>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7170840" y="2384280"/>
            <a:ext cx="1125360" cy="955800"/>
          </a:xfrm>
          <a:custGeom>
            <a:avLst/>
            <a:gdLst/>
            <a:ahLst/>
            <a:rect l="l" t="t" r="r" b="b"/>
            <a:pathLst>
              <a:path w="3127" h="2655">
                <a:moveTo>
                  <a:pt x="20191" y="6821"/>
                </a:moveTo>
                <a:cubicBezTo>
                  <a:pt x="20139" y="7100"/>
                  <a:pt x="20059" y="7354"/>
                  <a:pt x="20166" y="7640"/>
                </a:cubicBezTo>
                <a:cubicBezTo>
                  <a:pt x="20253" y="7770"/>
                  <a:pt x="20265" y="7810"/>
                  <a:pt x="20365" y="7838"/>
                </a:cubicBezTo>
              </a:path>
              <a:path w="3127" h="2655">
                <a:moveTo>
                  <a:pt x="20712" y="6896"/>
                </a:moveTo>
                <a:cubicBezTo>
                  <a:pt x="20627" y="6922"/>
                  <a:pt x="20501" y="6917"/>
                  <a:pt x="20464" y="6995"/>
                </a:cubicBezTo>
                <a:cubicBezTo>
                  <a:pt x="20442" y="7060"/>
                  <a:pt x="20434" y="7075"/>
                  <a:pt x="20439" y="7119"/>
                </a:cubicBezTo>
                <a:cubicBezTo>
                  <a:pt x="20574" y="7105"/>
                  <a:pt x="20854" y="6983"/>
                  <a:pt x="20910" y="7193"/>
                </a:cubicBezTo>
                <a:cubicBezTo>
                  <a:pt x="20967" y="7409"/>
                  <a:pt x="20672" y="7458"/>
                  <a:pt x="20538" y="7466"/>
                </a:cubicBezTo>
                <a:cubicBezTo>
                  <a:pt x="20513" y="7466"/>
                  <a:pt x="20489" y="7466"/>
                  <a:pt x="20464" y="7466"/>
                </a:cubicBezTo>
              </a:path>
              <a:path w="3127" h="2655">
                <a:moveTo>
                  <a:pt x="21134" y="7317"/>
                </a:moveTo>
                <a:cubicBezTo>
                  <a:pt x="21134" y="7469"/>
                  <a:pt x="21145" y="7621"/>
                  <a:pt x="21109" y="7764"/>
                </a:cubicBezTo>
              </a:path>
              <a:path w="3127" h="2655">
                <a:moveTo>
                  <a:pt x="21456" y="6896"/>
                </a:moveTo>
                <a:cubicBezTo>
                  <a:pt x="21544" y="7038"/>
                  <a:pt x="21600" y="7220"/>
                  <a:pt x="21630" y="7392"/>
                </a:cubicBezTo>
                <a:cubicBezTo>
                  <a:pt x="21630" y="7408"/>
                  <a:pt x="21630" y="7425"/>
                  <a:pt x="21630" y="7441"/>
                </a:cubicBezTo>
              </a:path>
              <a:path w="3127" h="2655">
                <a:moveTo>
                  <a:pt x="21481" y="6623"/>
                </a:moveTo>
                <a:cubicBezTo>
                  <a:pt x="21749" y="6703"/>
                  <a:pt x="22021" y="6809"/>
                  <a:pt x="22101" y="7119"/>
                </a:cubicBezTo>
                <a:cubicBezTo>
                  <a:pt x="22146" y="7293"/>
                  <a:pt x="22050" y="7455"/>
                  <a:pt x="22002" y="7615"/>
                </a:cubicBezTo>
              </a:path>
              <a:path w="3127" h="2655">
                <a:moveTo>
                  <a:pt x="19918" y="7838"/>
                </a:moveTo>
                <a:cubicBezTo>
                  <a:pt x="20221" y="7675"/>
                  <a:pt x="20541" y="7546"/>
                  <a:pt x="20861" y="7417"/>
                </a:cubicBezTo>
                <a:cubicBezTo>
                  <a:pt x="21296" y="7241"/>
                  <a:pt x="21815" y="7018"/>
                  <a:pt x="22275" y="6921"/>
                </a:cubicBezTo>
                <a:cubicBezTo>
                  <a:pt x="22314" y="6913"/>
                  <a:pt x="22341" y="6907"/>
                  <a:pt x="22374" y="6896"/>
                </a:cubicBezTo>
              </a:path>
              <a:path w="3127" h="2655">
                <a:moveTo>
                  <a:pt x="21530" y="8136"/>
                </a:moveTo>
                <a:cubicBezTo>
                  <a:pt x="21471" y="8115"/>
                  <a:pt x="21237" y="8535"/>
                  <a:pt x="21208" y="8706"/>
                </a:cubicBezTo>
                <a:cubicBezTo>
                  <a:pt x="21173" y="8913"/>
                  <a:pt x="21316" y="8930"/>
                  <a:pt x="21456" y="9004"/>
                </a:cubicBezTo>
              </a:path>
              <a:path w="3127" h="2655">
                <a:moveTo>
                  <a:pt x="21654" y="8285"/>
                </a:moveTo>
                <a:cubicBezTo>
                  <a:pt x="21646" y="8512"/>
                  <a:pt x="21630" y="8733"/>
                  <a:pt x="21580" y="8954"/>
                </a:cubicBezTo>
              </a:path>
              <a:path w="3127" h="2655">
                <a:moveTo>
                  <a:pt x="21853" y="8310"/>
                </a:moveTo>
                <a:cubicBezTo>
                  <a:pt x="21713" y="8561"/>
                  <a:pt x="21607" y="8702"/>
                  <a:pt x="21779" y="8930"/>
                </a:cubicBezTo>
                <a:cubicBezTo>
                  <a:pt x="22011" y="8792"/>
                  <a:pt x="22155" y="8597"/>
                  <a:pt x="21927" y="8334"/>
                </a:cubicBezTo>
                <a:cubicBezTo>
                  <a:pt x="21894" y="8318"/>
                  <a:pt x="21861" y="8301"/>
                  <a:pt x="21828" y="8285"/>
                </a:cubicBezTo>
              </a:path>
              <a:path w="3127" h="2655">
                <a:moveTo>
                  <a:pt x="22250" y="8905"/>
                </a:moveTo>
                <a:cubicBezTo>
                  <a:pt x="22250" y="9046"/>
                  <a:pt x="22250" y="9087"/>
                  <a:pt x="22250" y="9178"/>
                </a:cubicBezTo>
              </a:path>
              <a:path w="3127" h="2655">
                <a:moveTo>
                  <a:pt x="22423" y="8409"/>
                </a:moveTo>
                <a:cubicBezTo>
                  <a:pt x="22475" y="8331"/>
                  <a:pt x="22496" y="8305"/>
                  <a:pt x="22572" y="8310"/>
                </a:cubicBezTo>
                <a:cubicBezTo>
                  <a:pt x="22699" y="8467"/>
                  <a:pt x="22663" y="8604"/>
                  <a:pt x="22547" y="8781"/>
                </a:cubicBezTo>
                <a:cubicBezTo>
                  <a:pt x="22412" y="8986"/>
                  <a:pt x="22576" y="8909"/>
                  <a:pt x="22771" y="8880"/>
                </a:cubicBezTo>
              </a:path>
              <a:path w="3127" h="2655">
                <a:moveTo>
                  <a:pt x="22647" y="8012"/>
                </a:moveTo>
                <a:cubicBezTo>
                  <a:pt x="22874" y="8158"/>
                  <a:pt x="22999" y="8301"/>
                  <a:pt x="23044" y="8582"/>
                </a:cubicBezTo>
                <a:cubicBezTo>
                  <a:pt x="23078" y="8793"/>
                  <a:pt x="23034" y="9135"/>
                  <a:pt x="22845" y="9277"/>
                </a:cubicBezTo>
                <a:cubicBezTo>
                  <a:pt x="22837" y="9277"/>
                  <a:pt x="22828" y="9277"/>
                  <a:pt x="22820" y="9277"/>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4438800" y="4303800"/>
            <a:ext cx="125280" cy="108000"/>
          </a:xfrm>
          <a:custGeom>
            <a:avLst/>
            <a:gdLst/>
            <a:ahLst/>
            <a:rect l="l" t="t" r="r" b="b"/>
            <a:pathLst>
              <a:path w="348" h="299">
                <a:moveTo>
                  <a:pt x="12328" y="11956"/>
                </a:moveTo>
                <a:cubicBezTo>
                  <a:pt x="12335" y="12057"/>
                  <a:pt x="12329" y="12172"/>
                  <a:pt x="12378" y="12254"/>
                </a:cubicBezTo>
                <a:cubicBezTo>
                  <a:pt x="12520" y="12183"/>
                  <a:pt x="12639" y="12144"/>
                  <a:pt x="12675" y="11981"/>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4303800" y="4384800"/>
            <a:ext cx="90360" cy="36360"/>
          </a:xfrm>
          <a:custGeom>
            <a:avLst/>
            <a:gdLst/>
            <a:ahLst/>
            <a:rect l="l" t="t" r="r" b="b"/>
            <a:pathLst>
              <a:path w="249" h="100">
                <a:moveTo>
                  <a:pt x="11956" y="12278"/>
                </a:moveTo>
                <a:cubicBezTo>
                  <a:pt x="12048" y="12260"/>
                  <a:pt x="12120" y="12207"/>
                  <a:pt x="12204" y="12179"/>
                </a:cubicBezTo>
              </a:path>
            </a:pathLst>
          </a:custGeom>
          <a:noFill/>
          <a:ln cap="rnd" w="34920">
            <a:solidFill>
              <a:srgbClr val="ff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85" name=""/>
          <p:cNvSpPr/>
          <p:nvPr/>
        </p:nvSpPr>
        <p:spPr>
          <a:xfrm>
            <a:off x="4456080" y="4741920"/>
            <a:ext cx="98280" cy="231840"/>
          </a:xfrm>
          <a:custGeom>
            <a:avLst/>
            <a:gdLst/>
            <a:ahLst/>
            <a:rect l="l" t="t" r="r" b="b"/>
            <a:pathLst>
              <a:path w="273" h="646">
                <a:moveTo>
                  <a:pt x="12378" y="13171"/>
                </a:moveTo>
                <a:cubicBezTo>
                  <a:pt x="12378" y="13362"/>
                  <a:pt x="12393" y="13517"/>
                  <a:pt x="12477" y="13692"/>
                </a:cubicBezTo>
                <a:cubicBezTo>
                  <a:pt x="12587" y="13921"/>
                  <a:pt x="12633" y="13529"/>
                  <a:pt x="12650" y="13469"/>
                </a:cubicBezTo>
                <a:cubicBezTo>
                  <a:pt x="12650" y="13419"/>
                  <a:pt x="12650" y="13403"/>
                  <a:pt x="12601" y="13419"/>
                </a:cubicBezTo>
                <a:cubicBezTo>
                  <a:pt x="12572" y="13580"/>
                  <a:pt x="12561" y="13665"/>
                  <a:pt x="12601" y="13816"/>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0800" y="4822920"/>
            <a:ext cx="117360" cy="106200"/>
          </a:xfrm>
          <a:custGeom>
            <a:avLst/>
            <a:gdLst/>
            <a:ahLst/>
            <a:rect l="l" t="t" r="r" b="b"/>
            <a:pathLst>
              <a:path w="324" h="298">
                <a:moveTo>
                  <a:pt x="12055" y="13692"/>
                </a:moveTo>
                <a:cubicBezTo>
                  <a:pt x="12012" y="13586"/>
                  <a:pt x="12166" y="13541"/>
                  <a:pt x="12254" y="13494"/>
                </a:cubicBezTo>
                <a:cubicBezTo>
                  <a:pt x="12313" y="13464"/>
                  <a:pt x="12336" y="13446"/>
                  <a:pt x="12353" y="13395"/>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473720" y="5180040"/>
            <a:ext cx="117360" cy="204840"/>
          </a:xfrm>
          <a:custGeom>
            <a:avLst/>
            <a:gdLst/>
            <a:ahLst/>
            <a:rect l="l" t="t" r="r" b="b"/>
            <a:pathLst>
              <a:path w="324" h="571">
                <a:moveTo>
                  <a:pt x="12551" y="14412"/>
                </a:moveTo>
                <a:cubicBezTo>
                  <a:pt x="12478" y="14520"/>
                  <a:pt x="12440" y="14606"/>
                  <a:pt x="12427" y="14734"/>
                </a:cubicBezTo>
                <a:cubicBezTo>
                  <a:pt x="12567" y="14711"/>
                  <a:pt x="12857" y="14664"/>
                  <a:pt x="12700" y="14908"/>
                </a:cubicBezTo>
                <a:cubicBezTo>
                  <a:pt x="12675" y="14924"/>
                  <a:pt x="12651" y="14941"/>
                  <a:pt x="12626" y="14957"/>
                </a:cubicBezTo>
                <a:cubicBezTo>
                  <a:pt x="12547" y="14800"/>
                  <a:pt x="12576" y="14612"/>
                  <a:pt x="12576" y="14436"/>
                </a:cubicBezTo>
                <a:cubicBezTo>
                  <a:pt x="12576" y="14392"/>
                  <a:pt x="12579" y="14372"/>
                  <a:pt x="12551" y="14412"/>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367160" y="5259240"/>
            <a:ext cx="61920" cy="63720"/>
          </a:xfrm>
          <a:custGeom>
            <a:avLst/>
            <a:gdLst/>
            <a:ahLst/>
            <a:rect l="l" t="t" r="r" b="b"/>
            <a:pathLst>
              <a:path w="175" h="175">
                <a:moveTo>
                  <a:pt x="12129" y="14784"/>
                </a:moveTo>
                <a:cubicBezTo>
                  <a:pt x="12167" y="14708"/>
                  <a:pt x="12235" y="14667"/>
                  <a:pt x="12303" y="14610"/>
                </a:cubicBezTo>
              </a:path>
            </a:pathLst>
          </a:custGeom>
          <a:noFill/>
          <a:ln cap="rnd" w="34920">
            <a:solidFill>
              <a:srgbClr val="ff00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89" name=""/>
          <p:cNvSpPr/>
          <p:nvPr/>
        </p:nvSpPr>
        <p:spPr>
          <a:xfrm>
            <a:off x="4411800" y="5643720"/>
            <a:ext cx="17280" cy="179280"/>
          </a:xfrm>
          <a:custGeom>
            <a:avLst/>
            <a:gdLst/>
            <a:ahLst/>
            <a:rect l="l" t="t" r="r" b="b"/>
            <a:pathLst>
              <a:path w="50" h="497">
                <a:moveTo>
                  <a:pt x="12278" y="15677"/>
                </a:moveTo>
                <a:cubicBezTo>
                  <a:pt x="12261" y="15842"/>
                  <a:pt x="12266" y="16012"/>
                  <a:pt x="12303" y="16173"/>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4473720" y="5634000"/>
            <a:ext cx="98280" cy="152280"/>
          </a:xfrm>
          <a:custGeom>
            <a:avLst/>
            <a:gdLst/>
            <a:ahLst/>
            <a:rect l="l" t="t" r="r" b="b"/>
            <a:pathLst>
              <a:path w="274" h="422">
                <a:moveTo>
                  <a:pt x="12427" y="15652"/>
                </a:moveTo>
                <a:cubicBezTo>
                  <a:pt x="12427" y="15821"/>
                  <a:pt x="12454" y="15920"/>
                  <a:pt x="12526" y="16073"/>
                </a:cubicBezTo>
                <a:cubicBezTo>
                  <a:pt x="12618" y="16007"/>
                  <a:pt x="12758" y="15842"/>
                  <a:pt x="12675" y="15701"/>
                </a:cubicBezTo>
                <a:cubicBezTo>
                  <a:pt x="12582" y="15543"/>
                  <a:pt x="12467" y="15739"/>
                  <a:pt x="12427" y="15801"/>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4241880" y="5705640"/>
            <a:ext cx="108000" cy="53640"/>
          </a:xfrm>
          <a:custGeom>
            <a:avLst/>
            <a:gdLst/>
            <a:ahLst/>
            <a:rect l="l" t="t" r="r" b="b"/>
            <a:pathLst>
              <a:path w="299" h="150">
                <a:moveTo>
                  <a:pt x="11782" y="15999"/>
                </a:moveTo>
                <a:cubicBezTo>
                  <a:pt x="11880" y="15946"/>
                  <a:pt x="11981" y="15880"/>
                  <a:pt x="12080" y="15850"/>
                </a:cubicBezTo>
              </a:path>
            </a:pathLst>
          </a:custGeom>
          <a:noFill/>
          <a:ln cap="rnd" w="34920">
            <a:solidFill>
              <a:srgbClr val="ff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92" name=""/>
          <p:cNvSpPr/>
          <p:nvPr/>
        </p:nvSpPr>
        <p:spPr>
          <a:xfrm>
            <a:off x="5197320" y="965160"/>
            <a:ext cx="741600" cy="500040"/>
          </a:xfrm>
          <a:custGeom>
            <a:avLst/>
            <a:gdLst/>
            <a:ahLst/>
            <a:rect l="l" t="t" r="r" b="b"/>
            <a:pathLst>
              <a:path w="2060" h="1390">
                <a:moveTo>
                  <a:pt x="14585" y="2778"/>
                </a:moveTo>
                <a:cubicBezTo>
                  <a:pt x="14509" y="2995"/>
                  <a:pt x="14392" y="3213"/>
                  <a:pt x="14461" y="3448"/>
                </a:cubicBezTo>
                <a:cubicBezTo>
                  <a:pt x="14498" y="3573"/>
                  <a:pt x="14614" y="3647"/>
                  <a:pt x="14709" y="3721"/>
                </a:cubicBezTo>
              </a:path>
              <a:path w="2060" h="1390">
                <a:moveTo>
                  <a:pt x="15007" y="3051"/>
                </a:moveTo>
                <a:cubicBezTo>
                  <a:pt x="15007" y="3252"/>
                  <a:pt x="15015" y="3447"/>
                  <a:pt x="15032" y="3646"/>
                </a:cubicBezTo>
              </a:path>
              <a:path w="2060" h="1390">
                <a:moveTo>
                  <a:pt x="15354" y="3870"/>
                </a:moveTo>
                <a:cubicBezTo>
                  <a:pt x="15345" y="3990"/>
                  <a:pt x="15354" y="3982"/>
                  <a:pt x="15280" y="4068"/>
                </a:cubicBezTo>
              </a:path>
              <a:path w="2060" h="1390">
                <a:moveTo>
                  <a:pt x="15925" y="2952"/>
                </a:moveTo>
                <a:cubicBezTo>
                  <a:pt x="15870" y="2988"/>
                  <a:pt x="15678" y="3038"/>
                  <a:pt x="15652" y="3076"/>
                </a:cubicBezTo>
                <a:cubicBezTo>
                  <a:pt x="15621" y="3121"/>
                  <a:pt x="15620" y="3260"/>
                  <a:pt x="15602" y="3324"/>
                </a:cubicBezTo>
                <a:cubicBezTo>
                  <a:pt x="15785" y="3298"/>
                  <a:pt x="15866" y="3253"/>
                  <a:pt x="16049" y="3299"/>
                </a:cubicBezTo>
                <a:cubicBezTo>
                  <a:pt x="16019" y="3549"/>
                  <a:pt x="15931" y="3608"/>
                  <a:pt x="15677" y="3646"/>
                </a:cubicBezTo>
                <a:cubicBezTo>
                  <a:pt x="15644" y="3646"/>
                  <a:pt x="15610" y="3646"/>
                  <a:pt x="15577" y="3646"/>
                </a:cubicBezTo>
              </a:path>
              <a:path w="2060" h="1390">
                <a:moveTo>
                  <a:pt x="16049" y="2679"/>
                </a:moveTo>
                <a:cubicBezTo>
                  <a:pt x="16379" y="2896"/>
                  <a:pt x="16570" y="3041"/>
                  <a:pt x="16446" y="3473"/>
                </a:cubicBezTo>
                <a:cubicBezTo>
                  <a:pt x="16385" y="3684"/>
                  <a:pt x="16286" y="3793"/>
                  <a:pt x="16148" y="3944"/>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367000" y="6402240"/>
            <a:ext cx="1440" cy="1800"/>
          </a:xfrm>
          <a:custGeom>
            <a:avLst/>
            <a:gdLst/>
            <a:ahLst/>
            <a:rect l="l" t="t" r="r" b="b"/>
            <a:pathLst>
              <a:path w="1" h="1">
                <a:moveTo>
                  <a:pt x="6573" y="17785"/>
                </a:moveTo>
                <a:lnTo>
                  <a:pt x="6573" y="17785"/>
                </a:lnTo>
              </a:path>
            </a:pathLst>
          </a:custGeom>
          <a:noFill/>
          <a:ln cap="rnd" w="34920">
            <a:solidFill>
              <a:srgbClr val="ff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48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bjective:  Students will identify and plot ordered pairs on coordinate planes.</a:t>
            </a:r>
            <a:endParaRPr b="0" lang="en-US" sz="2800" spc="-1" strike="noStrike">
              <a:solidFill>
                <a:srgbClr val="000000"/>
              </a:solidFill>
              <a:latin typeface="Times New Roman"/>
            </a:endParaRPr>
          </a:p>
        </p:txBody>
      </p:sp>
      <p:sp>
        <p:nvSpPr>
          <p:cNvPr id="95" name="PlaceHolder 2"/>
          <p:cNvSpPr>
            <a:spLocks noGrp="1"/>
          </p:cNvSpPr>
          <p:nvPr>
            <p:ph/>
          </p:nvPr>
        </p:nvSpPr>
        <p:spPr>
          <a:xfrm>
            <a:off x="609480" y="1447920"/>
            <a:ext cx="381024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would your answers to the warm-up change if the numbers along the x and y axis were in intervals of two instead of one?</a:t>
            </a:r>
            <a:endParaRPr b="0" lang="en-US" sz="2800" spc="-1" strike="noStrike">
              <a:solidFill>
                <a:srgbClr val="000000"/>
              </a:solidFill>
              <a:latin typeface="Times New Roman"/>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would we graph (-6 1/2, 4)?</a:t>
            </a:r>
            <a:endParaRPr b="0" lang="en-US" sz="2800" spc="-1" strike="noStrike">
              <a:solidFill>
                <a:srgbClr val="000000"/>
              </a:solidFill>
              <a:latin typeface="Times New Roman"/>
            </a:endParaRPr>
          </a:p>
        </p:txBody>
      </p:sp>
      <p:pic>
        <p:nvPicPr>
          <p:cNvPr id="96" name="" descr=""/>
          <p:cNvPicPr/>
          <p:nvPr/>
        </p:nvPicPr>
        <p:blipFill>
          <a:blip r:embed="rId1"/>
          <a:stretch/>
        </p:blipFill>
        <p:spPr>
          <a:xfrm>
            <a:off x="4572000" y="2552760"/>
            <a:ext cx="3886200" cy="2914560"/>
          </a:xfrm>
          <a:prstGeom prst="rect">
            <a:avLst/>
          </a:prstGeom>
          <a:ln w="0">
            <a:noFill/>
          </a:ln>
        </p:spPr>
      </p:pic>
      <p:sp>
        <p:nvSpPr>
          <p:cNvPr id="97" name=""/>
          <p:cNvSpPr/>
          <p:nvPr/>
        </p:nvSpPr>
        <p:spPr>
          <a:xfrm>
            <a:off x="4510080" y="2509920"/>
            <a:ext cx="911160" cy="561960"/>
          </a:xfrm>
          <a:custGeom>
            <a:avLst/>
            <a:gdLst/>
            <a:ahLst/>
            <a:rect l="l" t="t" r="r" b="b"/>
            <a:pathLst>
              <a:path w="2531" h="1564">
                <a:moveTo>
                  <a:pt x="13643" y="8409"/>
                </a:moveTo>
                <a:cubicBezTo>
                  <a:pt x="13643" y="8425"/>
                  <a:pt x="13643" y="8442"/>
                  <a:pt x="13643" y="8458"/>
                </a:cubicBezTo>
                <a:cubicBezTo>
                  <a:pt x="13713" y="8404"/>
                  <a:pt x="13676" y="8311"/>
                  <a:pt x="13593" y="8384"/>
                </a:cubicBezTo>
                <a:cubicBezTo>
                  <a:pt x="13525" y="8444"/>
                  <a:pt x="13697" y="8529"/>
                  <a:pt x="13667" y="8384"/>
                </a:cubicBezTo>
                <a:cubicBezTo>
                  <a:pt x="13651" y="8376"/>
                  <a:pt x="13634" y="8367"/>
                  <a:pt x="13618" y="8359"/>
                </a:cubicBezTo>
                <a:cubicBezTo>
                  <a:pt x="13517" y="8399"/>
                  <a:pt x="13561" y="8495"/>
                  <a:pt x="13593" y="8458"/>
                </a:cubicBezTo>
                <a:cubicBezTo>
                  <a:pt x="13784" y="8235"/>
                  <a:pt x="13373" y="8533"/>
                  <a:pt x="13543" y="8508"/>
                </a:cubicBezTo>
                <a:cubicBezTo>
                  <a:pt x="13568" y="8491"/>
                  <a:pt x="13593" y="8475"/>
                  <a:pt x="13618" y="8458"/>
                </a:cubicBezTo>
              </a:path>
              <a:path w="2531" h="1564">
                <a:moveTo>
                  <a:pt x="12725" y="8533"/>
                </a:moveTo>
                <a:lnTo>
                  <a:pt x="12725" y="8533"/>
                </a:lnTo>
              </a:path>
              <a:path w="2531" h="1564">
                <a:moveTo>
                  <a:pt x="12700" y="7689"/>
                </a:moveTo>
                <a:cubicBezTo>
                  <a:pt x="12563" y="7826"/>
                  <a:pt x="12481" y="8031"/>
                  <a:pt x="12551" y="8235"/>
                </a:cubicBezTo>
                <a:cubicBezTo>
                  <a:pt x="12602" y="8384"/>
                  <a:pt x="12728" y="8457"/>
                  <a:pt x="12849" y="8533"/>
                </a:cubicBezTo>
              </a:path>
              <a:path w="2531" h="1564">
                <a:moveTo>
                  <a:pt x="12948" y="8186"/>
                </a:moveTo>
                <a:cubicBezTo>
                  <a:pt x="13018" y="8115"/>
                  <a:pt x="13039" y="8093"/>
                  <a:pt x="13097" y="8062"/>
                </a:cubicBezTo>
              </a:path>
              <a:path w="2531" h="1564">
                <a:moveTo>
                  <a:pt x="13122" y="7640"/>
                </a:moveTo>
                <a:cubicBezTo>
                  <a:pt x="13170" y="7837"/>
                  <a:pt x="13168" y="8030"/>
                  <a:pt x="13271" y="8210"/>
                </a:cubicBezTo>
                <a:cubicBezTo>
                  <a:pt x="13287" y="8227"/>
                  <a:pt x="13304" y="8243"/>
                  <a:pt x="13320" y="8260"/>
                </a:cubicBezTo>
                <a:cubicBezTo>
                  <a:pt x="13494" y="8179"/>
                  <a:pt x="13535" y="8121"/>
                  <a:pt x="13469" y="7938"/>
                </a:cubicBezTo>
                <a:cubicBezTo>
                  <a:pt x="13333" y="8056"/>
                  <a:pt x="13380" y="8129"/>
                  <a:pt x="13444" y="8285"/>
                </a:cubicBezTo>
              </a:path>
              <a:path w="2531" h="1564">
                <a:moveTo>
                  <a:pt x="13767" y="8037"/>
                </a:moveTo>
                <a:lnTo>
                  <a:pt x="13767" y="8037"/>
                </a:lnTo>
              </a:path>
              <a:path w="2531" h="1564">
                <a:moveTo>
                  <a:pt x="13915" y="7466"/>
                </a:moveTo>
                <a:cubicBezTo>
                  <a:pt x="13846" y="7556"/>
                  <a:pt x="13800" y="7611"/>
                  <a:pt x="13866" y="7689"/>
                </a:cubicBezTo>
                <a:cubicBezTo>
                  <a:pt x="13981" y="7664"/>
                  <a:pt x="14060" y="7640"/>
                  <a:pt x="14188" y="7640"/>
                </a:cubicBezTo>
                <a:cubicBezTo>
                  <a:pt x="14217" y="7773"/>
                  <a:pt x="14246" y="7905"/>
                  <a:pt x="14064" y="7938"/>
                </a:cubicBezTo>
                <a:cubicBezTo>
                  <a:pt x="14014" y="7938"/>
                  <a:pt x="13965" y="7938"/>
                  <a:pt x="13915" y="7938"/>
                </a:cubicBezTo>
              </a:path>
              <a:path w="2531" h="1564">
                <a:moveTo>
                  <a:pt x="14461" y="7813"/>
                </a:moveTo>
                <a:cubicBezTo>
                  <a:pt x="14472" y="7898"/>
                  <a:pt x="14491" y="7979"/>
                  <a:pt x="14511" y="8062"/>
                </a:cubicBezTo>
              </a:path>
              <a:path w="2531" h="1564">
                <a:moveTo>
                  <a:pt x="14461" y="7392"/>
                </a:moveTo>
                <a:cubicBezTo>
                  <a:pt x="14502" y="7535"/>
                  <a:pt x="14504" y="7597"/>
                  <a:pt x="14660" y="7516"/>
                </a:cubicBezTo>
                <a:cubicBezTo>
                  <a:pt x="14685" y="7499"/>
                  <a:pt x="14709" y="7483"/>
                  <a:pt x="14734" y="7466"/>
                </a:cubicBezTo>
              </a:path>
              <a:path w="2531" h="1564">
                <a:moveTo>
                  <a:pt x="14660" y="7317"/>
                </a:moveTo>
                <a:cubicBezTo>
                  <a:pt x="14706" y="7461"/>
                  <a:pt x="14750" y="7600"/>
                  <a:pt x="14808" y="7739"/>
                </a:cubicBezTo>
              </a:path>
              <a:path w="2531" h="1564">
                <a:moveTo>
                  <a:pt x="14461" y="6995"/>
                </a:moveTo>
                <a:cubicBezTo>
                  <a:pt x="14771" y="7010"/>
                  <a:pt x="14913" y="7181"/>
                  <a:pt x="15007" y="7491"/>
                </a:cubicBezTo>
                <a:cubicBezTo>
                  <a:pt x="15075" y="7715"/>
                  <a:pt x="15069" y="7802"/>
                  <a:pt x="14982" y="7987"/>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6858000" y="776160"/>
            <a:ext cx="1162080" cy="403200"/>
          </a:xfrm>
          <a:custGeom>
            <a:avLst/>
            <a:gdLst/>
            <a:ahLst/>
            <a:rect l="l" t="t" r="r" b="b"/>
            <a:pathLst>
              <a:path w="3226" h="1117">
                <a:moveTo>
                  <a:pt x="19323" y="2158"/>
                </a:moveTo>
                <a:cubicBezTo>
                  <a:pt x="19189" y="2427"/>
                  <a:pt x="18955" y="2812"/>
                  <a:pt x="19075" y="3125"/>
                </a:cubicBezTo>
                <a:cubicBezTo>
                  <a:pt x="19175" y="3200"/>
                  <a:pt x="19208" y="3226"/>
                  <a:pt x="19298" y="3225"/>
                </a:cubicBezTo>
              </a:path>
              <a:path w="3226" h="1117">
                <a:moveTo>
                  <a:pt x="19323" y="2704"/>
                </a:moveTo>
                <a:cubicBezTo>
                  <a:pt x="19422" y="2704"/>
                  <a:pt x="19522" y="2704"/>
                  <a:pt x="19621" y="2704"/>
                </a:cubicBezTo>
              </a:path>
              <a:path w="3226" h="1117">
                <a:moveTo>
                  <a:pt x="19893" y="2530"/>
                </a:moveTo>
                <a:cubicBezTo>
                  <a:pt x="19808" y="2740"/>
                  <a:pt x="19733" y="2902"/>
                  <a:pt x="19745" y="3125"/>
                </a:cubicBezTo>
                <a:cubicBezTo>
                  <a:pt x="19856" y="3130"/>
                  <a:pt x="20259" y="3144"/>
                  <a:pt x="20166" y="2902"/>
                </a:cubicBezTo>
                <a:cubicBezTo>
                  <a:pt x="20092" y="2708"/>
                  <a:pt x="19956" y="3027"/>
                  <a:pt x="19943" y="3051"/>
                </a:cubicBezTo>
              </a:path>
              <a:path w="3226" h="1117">
                <a:moveTo>
                  <a:pt x="20389" y="3125"/>
                </a:moveTo>
                <a:lnTo>
                  <a:pt x="20389" y="3125"/>
                </a:lnTo>
              </a:path>
              <a:path w="3226" h="1117">
                <a:moveTo>
                  <a:pt x="20886" y="2505"/>
                </a:moveTo>
                <a:cubicBezTo>
                  <a:pt x="20730" y="2560"/>
                  <a:pt x="20619" y="2549"/>
                  <a:pt x="20588" y="2704"/>
                </a:cubicBezTo>
                <a:cubicBezTo>
                  <a:pt x="20580" y="2737"/>
                  <a:pt x="20571" y="2770"/>
                  <a:pt x="20563" y="2803"/>
                </a:cubicBezTo>
                <a:cubicBezTo>
                  <a:pt x="20718" y="2722"/>
                  <a:pt x="20985" y="2577"/>
                  <a:pt x="20985" y="2902"/>
                </a:cubicBezTo>
                <a:cubicBezTo>
                  <a:pt x="20985" y="3186"/>
                  <a:pt x="20717" y="3073"/>
                  <a:pt x="20588" y="3001"/>
                </a:cubicBezTo>
              </a:path>
              <a:path w="3226" h="1117">
                <a:moveTo>
                  <a:pt x="21208" y="2977"/>
                </a:moveTo>
                <a:cubicBezTo>
                  <a:pt x="21233" y="3096"/>
                  <a:pt x="21251" y="3161"/>
                  <a:pt x="21233" y="3274"/>
                </a:cubicBezTo>
              </a:path>
              <a:path w="3226" h="1117">
                <a:moveTo>
                  <a:pt x="21555" y="2604"/>
                </a:moveTo>
                <a:cubicBezTo>
                  <a:pt x="21547" y="2647"/>
                  <a:pt x="21470" y="2857"/>
                  <a:pt x="21580" y="2853"/>
                </a:cubicBezTo>
                <a:cubicBezTo>
                  <a:pt x="21613" y="2845"/>
                  <a:pt x="21646" y="2836"/>
                  <a:pt x="21679" y="2828"/>
                </a:cubicBezTo>
              </a:path>
              <a:path w="3226" h="1117">
                <a:moveTo>
                  <a:pt x="21779" y="2555"/>
                </a:moveTo>
                <a:cubicBezTo>
                  <a:pt x="21749" y="2735"/>
                  <a:pt x="21768" y="2894"/>
                  <a:pt x="21779" y="3076"/>
                </a:cubicBezTo>
              </a:path>
              <a:path w="3226" h="1117">
                <a:moveTo>
                  <a:pt x="21853" y="2158"/>
                </a:moveTo>
                <a:cubicBezTo>
                  <a:pt x="22058" y="2386"/>
                  <a:pt x="22350" y="2635"/>
                  <a:pt x="22250" y="2977"/>
                </a:cubicBezTo>
                <a:cubicBezTo>
                  <a:pt x="22164" y="3105"/>
                  <a:pt x="22148" y="3137"/>
                  <a:pt x="22076" y="3200"/>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6786720" y="1295280"/>
            <a:ext cx="938160" cy="436680"/>
          </a:xfrm>
          <a:custGeom>
            <a:avLst/>
            <a:gdLst/>
            <a:ahLst/>
            <a:rect l="l" t="t" r="r" b="b"/>
            <a:pathLst>
              <a:path w="2605" h="1216">
                <a:moveTo>
                  <a:pt x="19273" y="3721"/>
                </a:moveTo>
                <a:cubicBezTo>
                  <a:pt x="19088" y="3776"/>
                  <a:pt x="18967" y="4012"/>
                  <a:pt x="18901" y="4192"/>
                </a:cubicBezTo>
                <a:cubicBezTo>
                  <a:pt x="18815" y="4426"/>
                  <a:pt x="18894" y="4573"/>
                  <a:pt x="19075" y="4713"/>
                </a:cubicBezTo>
              </a:path>
              <a:path w="2605" h="1216">
                <a:moveTo>
                  <a:pt x="19571" y="4018"/>
                </a:moveTo>
                <a:cubicBezTo>
                  <a:pt x="19641" y="3972"/>
                  <a:pt x="19886" y="3780"/>
                  <a:pt x="19893" y="3994"/>
                </a:cubicBezTo>
                <a:cubicBezTo>
                  <a:pt x="19898" y="4163"/>
                  <a:pt x="19794" y="4170"/>
                  <a:pt x="19670" y="4217"/>
                </a:cubicBezTo>
                <a:cubicBezTo>
                  <a:pt x="19687" y="4209"/>
                  <a:pt x="19703" y="4200"/>
                  <a:pt x="19720" y="4192"/>
                </a:cubicBezTo>
                <a:cubicBezTo>
                  <a:pt x="19880" y="4212"/>
                  <a:pt x="20215" y="4283"/>
                  <a:pt x="19968" y="4514"/>
                </a:cubicBezTo>
                <a:cubicBezTo>
                  <a:pt x="19788" y="4682"/>
                  <a:pt x="19597" y="4654"/>
                  <a:pt x="19372" y="4663"/>
                </a:cubicBezTo>
              </a:path>
              <a:path w="2605" h="1216">
                <a:moveTo>
                  <a:pt x="20290" y="4490"/>
                </a:moveTo>
                <a:cubicBezTo>
                  <a:pt x="20318" y="4602"/>
                  <a:pt x="20340" y="4697"/>
                  <a:pt x="20340" y="4812"/>
                </a:cubicBezTo>
              </a:path>
              <a:path w="2605" h="1216">
                <a:moveTo>
                  <a:pt x="20811" y="3919"/>
                </a:moveTo>
                <a:cubicBezTo>
                  <a:pt x="20769" y="4039"/>
                  <a:pt x="20740" y="4098"/>
                  <a:pt x="20762" y="4217"/>
                </a:cubicBezTo>
                <a:cubicBezTo>
                  <a:pt x="20875" y="4217"/>
                  <a:pt x="20973" y="4208"/>
                  <a:pt x="21084" y="4192"/>
                </a:cubicBezTo>
              </a:path>
              <a:path w="2605" h="1216">
                <a:moveTo>
                  <a:pt x="21010" y="3870"/>
                </a:moveTo>
                <a:cubicBezTo>
                  <a:pt x="21024" y="4060"/>
                  <a:pt x="21045" y="4250"/>
                  <a:pt x="21059" y="4440"/>
                </a:cubicBezTo>
                <a:cubicBezTo>
                  <a:pt x="21059" y="4506"/>
                  <a:pt x="21059" y="4523"/>
                  <a:pt x="21059" y="4564"/>
                </a:cubicBezTo>
              </a:path>
              <a:path w="2605" h="1216">
                <a:moveTo>
                  <a:pt x="21134" y="3597"/>
                </a:moveTo>
                <a:cubicBezTo>
                  <a:pt x="21362" y="3757"/>
                  <a:pt x="21499" y="3964"/>
                  <a:pt x="21456" y="4266"/>
                </a:cubicBezTo>
                <a:cubicBezTo>
                  <a:pt x="21392" y="4437"/>
                  <a:pt x="21385" y="4480"/>
                  <a:pt x="21307" y="4564"/>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6804000" y="1839960"/>
            <a:ext cx="455760" cy="384120"/>
          </a:xfrm>
          <a:custGeom>
            <a:avLst/>
            <a:gdLst/>
            <a:ahLst/>
            <a:rect l="l" t="t" r="r" b="b"/>
            <a:pathLst>
              <a:path w="1266" h="1067">
                <a:moveTo>
                  <a:pt x="19075" y="5135"/>
                </a:moveTo>
                <a:cubicBezTo>
                  <a:pt x="19075" y="5156"/>
                  <a:pt x="18907" y="5636"/>
                  <a:pt x="18901" y="5779"/>
                </a:cubicBezTo>
                <a:cubicBezTo>
                  <a:pt x="18890" y="6042"/>
                  <a:pt x="18968" y="6127"/>
                  <a:pt x="19199" y="6127"/>
                </a:cubicBezTo>
              </a:path>
              <a:path w="1266" h="1067">
                <a:moveTo>
                  <a:pt x="19496" y="5308"/>
                </a:moveTo>
                <a:cubicBezTo>
                  <a:pt x="19597" y="5233"/>
                  <a:pt x="19653" y="5219"/>
                  <a:pt x="19769" y="5184"/>
                </a:cubicBezTo>
                <a:cubicBezTo>
                  <a:pt x="19794" y="5318"/>
                  <a:pt x="19754" y="5477"/>
                  <a:pt x="19596" y="5531"/>
                </a:cubicBezTo>
                <a:cubicBezTo>
                  <a:pt x="19612" y="5515"/>
                  <a:pt x="19629" y="5498"/>
                  <a:pt x="19645" y="5482"/>
                </a:cubicBezTo>
                <a:cubicBezTo>
                  <a:pt x="19822" y="5471"/>
                  <a:pt x="19972" y="5569"/>
                  <a:pt x="19819" y="5779"/>
                </a:cubicBezTo>
                <a:cubicBezTo>
                  <a:pt x="19696" y="5947"/>
                  <a:pt x="19570" y="5945"/>
                  <a:pt x="19397" y="5928"/>
                </a:cubicBezTo>
              </a:path>
              <a:path w="1266" h="1067">
                <a:moveTo>
                  <a:pt x="20166" y="5854"/>
                </a:moveTo>
                <a:cubicBezTo>
                  <a:pt x="20166" y="5970"/>
                  <a:pt x="20171" y="6068"/>
                  <a:pt x="20141" y="6176"/>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7412040" y="1758960"/>
            <a:ext cx="446040" cy="376200"/>
          </a:xfrm>
          <a:custGeom>
            <a:avLst/>
            <a:gdLst/>
            <a:ahLst/>
            <a:rect l="l" t="t" r="r" b="b"/>
            <a:pathLst>
              <a:path w="1241" h="1042">
                <a:moveTo>
                  <a:pt x="20588" y="5457"/>
                </a:moveTo>
                <a:cubicBezTo>
                  <a:pt x="20720" y="5413"/>
                  <a:pt x="20751" y="5401"/>
                  <a:pt x="20836" y="5383"/>
                </a:cubicBezTo>
              </a:path>
              <a:path w="1241" h="1042">
                <a:moveTo>
                  <a:pt x="21084" y="5209"/>
                </a:moveTo>
                <a:cubicBezTo>
                  <a:pt x="21179" y="5161"/>
                  <a:pt x="21208" y="5144"/>
                  <a:pt x="21282" y="5159"/>
                </a:cubicBezTo>
                <a:cubicBezTo>
                  <a:pt x="21405" y="5327"/>
                  <a:pt x="21258" y="5456"/>
                  <a:pt x="21134" y="5631"/>
                </a:cubicBezTo>
                <a:cubicBezTo>
                  <a:pt x="21109" y="5664"/>
                  <a:pt x="21084" y="5697"/>
                  <a:pt x="21059" y="5730"/>
                </a:cubicBezTo>
                <a:cubicBezTo>
                  <a:pt x="21194" y="5705"/>
                  <a:pt x="21314" y="5663"/>
                  <a:pt x="21456" y="5655"/>
                </a:cubicBezTo>
              </a:path>
              <a:path w="1241" h="1042">
                <a:moveTo>
                  <a:pt x="21406" y="4887"/>
                </a:moveTo>
                <a:cubicBezTo>
                  <a:pt x="21624" y="4979"/>
                  <a:pt x="21738" y="5095"/>
                  <a:pt x="21803" y="5333"/>
                </a:cubicBezTo>
                <a:cubicBezTo>
                  <a:pt x="21865" y="5563"/>
                  <a:pt x="21789" y="5750"/>
                  <a:pt x="21654" y="5928"/>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6867360" y="2197080"/>
            <a:ext cx="982800" cy="419040"/>
          </a:xfrm>
          <a:custGeom>
            <a:avLst/>
            <a:gdLst/>
            <a:ahLst/>
            <a:rect l="l" t="t" r="r" b="b"/>
            <a:pathLst>
              <a:path w="2729" h="1167">
                <a:moveTo>
                  <a:pt x="19199" y="6400"/>
                </a:moveTo>
                <a:cubicBezTo>
                  <a:pt x="19125" y="6603"/>
                  <a:pt x="19019" y="6896"/>
                  <a:pt x="19075" y="7119"/>
                </a:cubicBezTo>
                <a:cubicBezTo>
                  <a:pt x="19098" y="7208"/>
                  <a:pt x="19233" y="7208"/>
                  <a:pt x="19298" y="7218"/>
                </a:cubicBezTo>
              </a:path>
              <a:path w="2729" h="1167">
                <a:moveTo>
                  <a:pt x="21580" y="6102"/>
                </a:moveTo>
                <a:cubicBezTo>
                  <a:pt x="21713" y="6296"/>
                  <a:pt x="21878" y="6519"/>
                  <a:pt x="21779" y="6772"/>
                </a:cubicBezTo>
                <a:cubicBezTo>
                  <a:pt x="21668" y="6925"/>
                  <a:pt x="21644" y="6966"/>
                  <a:pt x="21555" y="7045"/>
                </a:cubicBezTo>
              </a:path>
              <a:path w="2729" h="1167">
                <a:moveTo>
                  <a:pt x="20315" y="6995"/>
                </a:moveTo>
                <a:cubicBezTo>
                  <a:pt x="20438" y="7107"/>
                  <a:pt x="20423" y="7101"/>
                  <a:pt x="20414" y="7268"/>
                </a:cubicBezTo>
              </a:path>
              <a:path w="2729" h="1167">
                <a:moveTo>
                  <a:pt x="19224" y="6772"/>
                </a:moveTo>
                <a:cubicBezTo>
                  <a:pt x="19313" y="6772"/>
                  <a:pt x="19386" y="6767"/>
                  <a:pt x="19472" y="6747"/>
                </a:cubicBezTo>
              </a:path>
              <a:path w="2729" h="1167">
                <a:moveTo>
                  <a:pt x="19546" y="6474"/>
                </a:moveTo>
                <a:cubicBezTo>
                  <a:pt x="19546" y="6604"/>
                  <a:pt x="19511" y="6718"/>
                  <a:pt x="19496" y="6846"/>
                </a:cubicBezTo>
                <a:cubicBezTo>
                  <a:pt x="19496" y="6871"/>
                  <a:pt x="19496" y="6896"/>
                  <a:pt x="19496" y="6921"/>
                </a:cubicBezTo>
                <a:cubicBezTo>
                  <a:pt x="19650" y="6941"/>
                  <a:pt x="19680" y="6932"/>
                  <a:pt x="19769" y="6796"/>
                </a:cubicBezTo>
                <a:cubicBezTo>
                  <a:pt x="19735" y="6745"/>
                  <a:pt x="19669" y="6780"/>
                  <a:pt x="19645" y="6846"/>
                </a:cubicBezTo>
                <a:cubicBezTo>
                  <a:pt x="19637" y="6879"/>
                  <a:pt x="19629" y="6912"/>
                  <a:pt x="19621" y="6945"/>
                </a:cubicBezTo>
              </a:path>
              <a:path w="2729" h="1167">
                <a:moveTo>
                  <a:pt x="19869" y="6796"/>
                </a:moveTo>
                <a:cubicBezTo>
                  <a:pt x="19877" y="6813"/>
                  <a:pt x="19885" y="6829"/>
                  <a:pt x="19893" y="6846"/>
                </a:cubicBezTo>
              </a:path>
              <a:path w="2729" h="1167">
                <a:moveTo>
                  <a:pt x="20017" y="6375"/>
                </a:moveTo>
                <a:cubicBezTo>
                  <a:pt x="19969" y="6403"/>
                  <a:pt x="19914" y="6428"/>
                  <a:pt x="19943" y="6499"/>
                </a:cubicBezTo>
                <a:cubicBezTo>
                  <a:pt x="19972" y="6567"/>
                  <a:pt x="20129" y="6497"/>
                  <a:pt x="20191" y="6573"/>
                </a:cubicBezTo>
                <a:cubicBezTo>
                  <a:pt x="20274" y="6675"/>
                  <a:pt x="20116" y="6733"/>
                  <a:pt x="20042" y="6747"/>
                </a:cubicBezTo>
                <a:cubicBezTo>
                  <a:pt x="20026" y="6747"/>
                  <a:pt x="20009" y="6747"/>
                  <a:pt x="19993" y="6747"/>
                </a:cubicBezTo>
              </a:path>
              <a:path w="2729" h="1167">
                <a:moveTo>
                  <a:pt x="20613" y="6747"/>
                </a:moveTo>
                <a:cubicBezTo>
                  <a:pt x="20672" y="6747"/>
                  <a:pt x="20698" y="6744"/>
                  <a:pt x="20737" y="6722"/>
                </a:cubicBezTo>
              </a:path>
              <a:path w="2729" h="1167">
                <a:moveTo>
                  <a:pt x="21010" y="6474"/>
                </a:moveTo>
                <a:cubicBezTo>
                  <a:pt x="21010" y="6391"/>
                  <a:pt x="21002" y="6358"/>
                  <a:pt x="21084" y="6325"/>
                </a:cubicBezTo>
                <a:cubicBezTo>
                  <a:pt x="21107" y="6499"/>
                  <a:pt x="21062" y="6612"/>
                  <a:pt x="20985" y="6772"/>
                </a:cubicBezTo>
                <a:cubicBezTo>
                  <a:pt x="20961" y="6820"/>
                  <a:pt x="20952" y="6834"/>
                  <a:pt x="20960" y="6871"/>
                </a:cubicBezTo>
                <a:cubicBezTo>
                  <a:pt x="20978" y="6835"/>
                  <a:pt x="21003" y="6735"/>
                  <a:pt x="21059" y="6747"/>
                </a:cubicBezTo>
                <a:cubicBezTo>
                  <a:pt x="21171" y="6771"/>
                  <a:pt x="21230" y="6800"/>
                  <a:pt x="21307" y="6722"/>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7224840" y="2973240"/>
            <a:ext cx="79200" cy="71640"/>
          </a:xfrm>
          <a:custGeom>
            <a:avLst/>
            <a:gdLst/>
            <a:ahLst/>
            <a:rect l="l" t="t" r="r" b="b"/>
            <a:pathLst>
              <a:path w="224" h="199">
                <a:moveTo>
                  <a:pt x="20117" y="8384"/>
                </a:moveTo>
                <a:cubicBezTo>
                  <a:pt x="20214" y="8217"/>
                  <a:pt x="20057" y="8436"/>
                  <a:pt x="20092" y="8434"/>
                </a:cubicBezTo>
                <a:cubicBezTo>
                  <a:pt x="20216" y="8427"/>
                  <a:pt x="20275" y="8237"/>
                  <a:pt x="20166" y="8285"/>
                </a:cubicBezTo>
                <a:cubicBezTo>
                  <a:pt x="20166" y="8325"/>
                  <a:pt x="20156" y="8344"/>
                  <a:pt x="20117" y="8359"/>
                </a:cubicBezTo>
                <a:cubicBezTo>
                  <a:pt x="20219" y="8382"/>
                  <a:pt x="20227" y="8364"/>
                  <a:pt x="20290" y="8285"/>
                </a:cubicBezTo>
                <a:cubicBezTo>
                  <a:pt x="20189" y="8262"/>
                  <a:pt x="20111" y="8294"/>
                  <a:pt x="20067" y="8409"/>
                </a:cubicBezTo>
                <a:cubicBezTo>
                  <a:pt x="19980" y="8636"/>
                  <a:pt x="20337" y="8212"/>
                  <a:pt x="20117" y="8359"/>
                </a:cubicBezTo>
                <a:cubicBezTo>
                  <a:pt x="20100" y="8384"/>
                  <a:pt x="20084" y="8409"/>
                  <a:pt x="20067" y="8434"/>
                </a:cubicBezTo>
              </a:path>
            </a:pathLst>
          </a:custGeom>
          <a:noFill/>
          <a:ln cap="rnd" w="34920">
            <a:solidFill>
              <a:srgbClr val="ff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04" name=""/>
          <p:cNvSpPr/>
          <p:nvPr/>
        </p:nvSpPr>
        <p:spPr>
          <a:xfrm>
            <a:off x="7429680" y="2633760"/>
            <a:ext cx="536400" cy="411120"/>
          </a:xfrm>
          <a:custGeom>
            <a:avLst/>
            <a:gdLst/>
            <a:ahLst/>
            <a:rect l="l" t="t" r="r" b="b"/>
            <a:pathLst>
              <a:path w="1489" h="1142">
                <a:moveTo>
                  <a:pt x="20687" y="7714"/>
                </a:moveTo>
                <a:cubicBezTo>
                  <a:pt x="20638" y="7971"/>
                  <a:pt x="20587" y="8173"/>
                  <a:pt x="20786" y="8384"/>
                </a:cubicBezTo>
                <a:cubicBezTo>
                  <a:pt x="20794" y="8384"/>
                  <a:pt x="20803" y="8384"/>
                  <a:pt x="20811" y="8384"/>
                </a:cubicBezTo>
              </a:path>
              <a:path w="1489" h="1142">
                <a:moveTo>
                  <a:pt x="20910" y="7813"/>
                </a:moveTo>
                <a:cubicBezTo>
                  <a:pt x="20930" y="7732"/>
                  <a:pt x="20929" y="7734"/>
                  <a:pt x="21010" y="7714"/>
                </a:cubicBezTo>
                <a:cubicBezTo>
                  <a:pt x="21069" y="7815"/>
                  <a:pt x="21069" y="7812"/>
                  <a:pt x="21010" y="7913"/>
                </a:cubicBezTo>
                <a:cubicBezTo>
                  <a:pt x="21191" y="7937"/>
                  <a:pt x="21258" y="8021"/>
                  <a:pt x="21109" y="8186"/>
                </a:cubicBezTo>
                <a:cubicBezTo>
                  <a:pt x="21023" y="8250"/>
                  <a:pt x="21006" y="8275"/>
                  <a:pt x="20935" y="8260"/>
                </a:cubicBezTo>
              </a:path>
              <a:path w="1489" h="1142">
                <a:moveTo>
                  <a:pt x="21431" y="8161"/>
                </a:moveTo>
                <a:cubicBezTo>
                  <a:pt x="21467" y="8260"/>
                  <a:pt x="21510" y="8359"/>
                  <a:pt x="21530" y="8458"/>
                </a:cubicBezTo>
              </a:path>
              <a:path w="1489" h="1142">
                <a:moveTo>
                  <a:pt x="21456" y="7838"/>
                </a:moveTo>
                <a:cubicBezTo>
                  <a:pt x="21526" y="7937"/>
                  <a:pt x="21560" y="8036"/>
                  <a:pt x="21704" y="7987"/>
                </a:cubicBezTo>
                <a:cubicBezTo>
                  <a:pt x="21769" y="7944"/>
                  <a:pt x="21790" y="7938"/>
                  <a:pt x="21803" y="7888"/>
                </a:cubicBezTo>
              </a:path>
              <a:path w="1489" h="1142">
                <a:moveTo>
                  <a:pt x="21679" y="7665"/>
                </a:moveTo>
                <a:cubicBezTo>
                  <a:pt x="21735" y="7818"/>
                  <a:pt x="21766" y="7996"/>
                  <a:pt x="21828" y="8136"/>
                </a:cubicBezTo>
              </a:path>
              <a:path w="1489" h="1142">
                <a:moveTo>
                  <a:pt x="21654" y="7342"/>
                </a:moveTo>
                <a:cubicBezTo>
                  <a:pt x="21878" y="7301"/>
                  <a:pt x="22026" y="7448"/>
                  <a:pt x="22101" y="7665"/>
                </a:cubicBezTo>
                <a:cubicBezTo>
                  <a:pt x="22159" y="7830"/>
                  <a:pt x="22134" y="8028"/>
                  <a:pt x="22076" y="8186"/>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4822920" y="2963880"/>
            <a:ext cx="2481120" cy="1590480"/>
          </a:xfrm>
          <a:custGeom>
            <a:avLst/>
            <a:gdLst/>
            <a:ahLst/>
            <a:rect l="l" t="t" r="r" b="b"/>
            <a:pathLst>
              <a:path w="6896" h="4416">
                <a:moveTo>
                  <a:pt x="13742" y="8533"/>
                </a:moveTo>
                <a:cubicBezTo>
                  <a:pt x="13750" y="8533"/>
                  <a:pt x="13759" y="8533"/>
                  <a:pt x="13767" y="8533"/>
                </a:cubicBezTo>
                <a:cubicBezTo>
                  <a:pt x="13762" y="8464"/>
                  <a:pt x="13683" y="8472"/>
                  <a:pt x="13742" y="8409"/>
                </a:cubicBezTo>
                <a:cubicBezTo>
                  <a:pt x="13801" y="8346"/>
                  <a:pt x="13868" y="8409"/>
                  <a:pt x="13915" y="8409"/>
                </a:cubicBezTo>
                <a:cubicBezTo>
                  <a:pt x="14031" y="8409"/>
                  <a:pt x="14127" y="8413"/>
                  <a:pt x="14238" y="8434"/>
                </a:cubicBezTo>
                <a:cubicBezTo>
                  <a:pt x="14311" y="8448"/>
                  <a:pt x="14383" y="8476"/>
                  <a:pt x="14461" y="8483"/>
                </a:cubicBezTo>
                <a:cubicBezTo>
                  <a:pt x="14811" y="8513"/>
                  <a:pt x="15183" y="8481"/>
                  <a:pt x="15528" y="8458"/>
                </a:cubicBezTo>
                <a:cubicBezTo>
                  <a:pt x="15633" y="8451"/>
                  <a:pt x="15751" y="8440"/>
                  <a:pt x="15850" y="8434"/>
                </a:cubicBezTo>
                <a:cubicBezTo>
                  <a:pt x="16039" y="8423"/>
                  <a:pt x="16262" y="8393"/>
                  <a:pt x="16446" y="8409"/>
                </a:cubicBezTo>
                <a:cubicBezTo>
                  <a:pt x="16540" y="8417"/>
                  <a:pt x="16581" y="8403"/>
                  <a:pt x="16669" y="8409"/>
                </a:cubicBezTo>
                <a:cubicBezTo>
                  <a:pt x="16766" y="8415"/>
                  <a:pt x="16864" y="8432"/>
                  <a:pt x="16966" y="8434"/>
                </a:cubicBezTo>
                <a:cubicBezTo>
                  <a:pt x="17237" y="8440"/>
                  <a:pt x="17556" y="8468"/>
                  <a:pt x="17810" y="8458"/>
                </a:cubicBezTo>
                <a:cubicBezTo>
                  <a:pt x="17886" y="8455"/>
                  <a:pt x="17967" y="8455"/>
                  <a:pt x="18033" y="8458"/>
                </a:cubicBezTo>
                <a:cubicBezTo>
                  <a:pt x="18130" y="8462"/>
                  <a:pt x="18214" y="8441"/>
                  <a:pt x="18306" y="8434"/>
                </a:cubicBezTo>
                <a:cubicBezTo>
                  <a:pt x="18388" y="8428"/>
                  <a:pt x="18483" y="8461"/>
                  <a:pt x="18554" y="8458"/>
                </a:cubicBezTo>
                <a:cubicBezTo>
                  <a:pt x="18622" y="8455"/>
                  <a:pt x="18701" y="8434"/>
                  <a:pt x="18777" y="8434"/>
                </a:cubicBezTo>
                <a:cubicBezTo>
                  <a:pt x="18866" y="8434"/>
                  <a:pt x="18972" y="8441"/>
                  <a:pt x="19050" y="8434"/>
                </a:cubicBezTo>
                <a:cubicBezTo>
                  <a:pt x="19150" y="8425"/>
                  <a:pt x="19244" y="8409"/>
                  <a:pt x="19348" y="8409"/>
                </a:cubicBezTo>
                <a:cubicBezTo>
                  <a:pt x="19622" y="8409"/>
                  <a:pt x="19901" y="8415"/>
                  <a:pt x="20166" y="8384"/>
                </a:cubicBezTo>
                <a:cubicBezTo>
                  <a:pt x="20174" y="8384"/>
                  <a:pt x="20183" y="8384"/>
                  <a:pt x="20191" y="8384"/>
                </a:cubicBezTo>
              </a:path>
              <a:path w="6896" h="4416">
                <a:moveTo>
                  <a:pt x="20166" y="8235"/>
                </a:moveTo>
                <a:cubicBezTo>
                  <a:pt x="20181" y="8294"/>
                  <a:pt x="20189" y="8320"/>
                  <a:pt x="20191" y="8384"/>
                </a:cubicBezTo>
                <a:cubicBezTo>
                  <a:pt x="20194" y="8463"/>
                  <a:pt x="20210" y="8529"/>
                  <a:pt x="20216" y="8607"/>
                </a:cubicBezTo>
                <a:cubicBezTo>
                  <a:pt x="20223" y="8693"/>
                  <a:pt x="20199" y="8755"/>
                  <a:pt x="20191" y="8830"/>
                </a:cubicBezTo>
                <a:cubicBezTo>
                  <a:pt x="20185" y="8887"/>
                  <a:pt x="20171" y="8959"/>
                  <a:pt x="20166" y="9004"/>
                </a:cubicBezTo>
                <a:cubicBezTo>
                  <a:pt x="20158" y="9077"/>
                  <a:pt x="20147" y="9159"/>
                  <a:pt x="20141" y="9227"/>
                </a:cubicBezTo>
                <a:cubicBezTo>
                  <a:pt x="20134" y="9297"/>
                  <a:pt x="20132" y="9358"/>
                  <a:pt x="20117" y="9426"/>
                </a:cubicBezTo>
                <a:cubicBezTo>
                  <a:pt x="20104" y="9485"/>
                  <a:pt x="20085" y="9545"/>
                  <a:pt x="20067" y="9599"/>
                </a:cubicBezTo>
                <a:cubicBezTo>
                  <a:pt x="20048" y="9659"/>
                  <a:pt x="20053" y="9711"/>
                  <a:pt x="20042" y="9773"/>
                </a:cubicBezTo>
                <a:cubicBezTo>
                  <a:pt x="20030" y="9842"/>
                  <a:pt x="20019" y="9895"/>
                  <a:pt x="20017" y="9971"/>
                </a:cubicBezTo>
                <a:cubicBezTo>
                  <a:pt x="20003" y="10388"/>
                  <a:pt x="20005" y="10837"/>
                  <a:pt x="20042" y="11237"/>
                </a:cubicBezTo>
                <a:cubicBezTo>
                  <a:pt x="20052" y="11342"/>
                  <a:pt x="20059" y="11460"/>
                  <a:pt x="20067" y="11559"/>
                </a:cubicBezTo>
                <a:cubicBezTo>
                  <a:pt x="20077" y="11693"/>
                  <a:pt x="20077" y="11824"/>
                  <a:pt x="20092" y="11956"/>
                </a:cubicBezTo>
                <a:cubicBezTo>
                  <a:pt x="20104" y="12062"/>
                  <a:pt x="20080" y="12154"/>
                  <a:pt x="20117" y="12254"/>
                </a:cubicBezTo>
                <a:cubicBezTo>
                  <a:pt x="20161" y="12374"/>
                  <a:pt x="20228" y="12482"/>
                  <a:pt x="20265" y="12601"/>
                </a:cubicBezTo>
              </a:path>
              <a:path w="6896" h="4416">
                <a:moveTo>
                  <a:pt x="13469" y="12551"/>
                </a:moveTo>
                <a:cubicBezTo>
                  <a:pt x="13551" y="12560"/>
                  <a:pt x="13632" y="12565"/>
                  <a:pt x="13717" y="12576"/>
                </a:cubicBezTo>
                <a:cubicBezTo>
                  <a:pt x="13795" y="12586"/>
                  <a:pt x="13860" y="12596"/>
                  <a:pt x="13940" y="12601"/>
                </a:cubicBezTo>
                <a:cubicBezTo>
                  <a:pt x="14025" y="12606"/>
                  <a:pt x="14104" y="12620"/>
                  <a:pt x="14188" y="12626"/>
                </a:cubicBezTo>
                <a:cubicBezTo>
                  <a:pt x="14256" y="12631"/>
                  <a:pt x="14292" y="12625"/>
                  <a:pt x="14362" y="12626"/>
                </a:cubicBezTo>
                <a:cubicBezTo>
                  <a:pt x="14467" y="12628"/>
                  <a:pt x="14558" y="12608"/>
                  <a:pt x="14660" y="12601"/>
                </a:cubicBezTo>
                <a:cubicBezTo>
                  <a:pt x="14868" y="12587"/>
                  <a:pt x="15082" y="12613"/>
                  <a:pt x="15280" y="12626"/>
                </a:cubicBezTo>
                <a:cubicBezTo>
                  <a:pt x="15483" y="12639"/>
                  <a:pt x="15727" y="12657"/>
                  <a:pt x="15925" y="12650"/>
                </a:cubicBezTo>
                <a:cubicBezTo>
                  <a:pt x="15974" y="12648"/>
                  <a:pt x="16046" y="12633"/>
                  <a:pt x="16098" y="12626"/>
                </a:cubicBezTo>
                <a:cubicBezTo>
                  <a:pt x="16158" y="12618"/>
                  <a:pt x="16211" y="12605"/>
                  <a:pt x="16272" y="12601"/>
                </a:cubicBezTo>
                <a:cubicBezTo>
                  <a:pt x="16358" y="12596"/>
                  <a:pt x="16436" y="12581"/>
                  <a:pt x="16520" y="12576"/>
                </a:cubicBezTo>
                <a:cubicBezTo>
                  <a:pt x="16685" y="12566"/>
                  <a:pt x="16855" y="12562"/>
                  <a:pt x="17016" y="12551"/>
                </a:cubicBezTo>
                <a:cubicBezTo>
                  <a:pt x="17138" y="12543"/>
                  <a:pt x="17270" y="12532"/>
                  <a:pt x="17388" y="12526"/>
                </a:cubicBezTo>
                <a:cubicBezTo>
                  <a:pt x="17613" y="12515"/>
                  <a:pt x="17842" y="12537"/>
                  <a:pt x="18058" y="12551"/>
                </a:cubicBezTo>
                <a:cubicBezTo>
                  <a:pt x="18173" y="12559"/>
                  <a:pt x="18270" y="12542"/>
                  <a:pt x="18380" y="12526"/>
                </a:cubicBezTo>
                <a:cubicBezTo>
                  <a:pt x="18496" y="12509"/>
                  <a:pt x="18611" y="12514"/>
                  <a:pt x="18728" y="12502"/>
                </a:cubicBezTo>
                <a:cubicBezTo>
                  <a:pt x="18804" y="12494"/>
                  <a:pt x="18901" y="12471"/>
                  <a:pt x="18976" y="12452"/>
                </a:cubicBezTo>
                <a:cubicBezTo>
                  <a:pt x="19085" y="12425"/>
                  <a:pt x="19162" y="12416"/>
                  <a:pt x="19273" y="12402"/>
                </a:cubicBezTo>
                <a:cubicBezTo>
                  <a:pt x="19352" y="12392"/>
                  <a:pt x="19415" y="12379"/>
                  <a:pt x="19496" y="12378"/>
                </a:cubicBezTo>
                <a:cubicBezTo>
                  <a:pt x="19760" y="12374"/>
                  <a:pt x="20025" y="12378"/>
                  <a:pt x="20290" y="12378"/>
                </a:cubicBezTo>
              </a:path>
              <a:path w="6896" h="4416">
                <a:moveTo>
                  <a:pt x="13444" y="12601"/>
                </a:moveTo>
                <a:cubicBezTo>
                  <a:pt x="13407" y="12525"/>
                  <a:pt x="13399" y="12492"/>
                  <a:pt x="13395" y="12402"/>
                </a:cubicBezTo>
                <a:cubicBezTo>
                  <a:pt x="13390" y="12289"/>
                  <a:pt x="13411" y="12184"/>
                  <a:pt x="13419" y="12080"/>
                </a:cubicBezTo>
                <a:cubicBezTo>
                  <a:pt x="13425" y="12009"/>
                  <a:pt x="13437" y="11950"/>
                  <a:pt x="13444" y="11881"/>
                </a:cubicBezTo>
                <a:cubicBezTo>
                  <a:pt x="13451" y="11809"/>
                  <a:pt x="13466" y="11755"/>
                  <a:pt x="13469" y="11683"/>
                </a:cubicBezTo>
                <a:cubicBezTo>
                  <a:pt x="13473" y="11554"/>
                  <a:pt x="13436" y="11402"/>
                  <a:pt x="13444" y="11286"/>
                </a:cubicBezTo>
                <a:cubicBezTo>
                  <a:pt x="13448" y="11222"/>
                  <a:pt x="13467" y="11182"/>
                  <a:pt x="13469" y="11112"/>
                </a:cubicBezTo>
                <a:cubicBezTo>
                  <a:pt x="13475" y="10927"/>
                  <a:pt x="13463" y="10747"/>
                  <a:pt x="13444" y="10567"/>
                </a:cubicBezTo>
                <a:cubicBezTo>
                  <a:pt x="13436" y="10488"/>
                  <a:pt x="13466" y="10377"/>
                  <a:pt x="13469" y="10294"/>
                </a:cubicBezTo>
                <a:cubicBezTo>
                  <a:pt x="13473" y="10159"/>
                  <a:pt x="13481" y="10025"/>
                  <a:pt x="13494" y="9897"/>
                </a:cubicBezTo>
                <a:cubicBezTo>
                  <a:pt x="13502" y="9818"/>
                  <a:pt x="13475" y="9751"/>
                  <a:pt x="13469" y="9674"/>
                </a:cubicBezTo>
                <a:cubicBezTo>
                  <a:pt x="13459" y="9553"/>
                  <a:pt x="13453" y="9410"/>
                  <a:pt x="13444" y="9302"/>
                </a:cubicBezTo>
                <a:cubicBezTo>
                  <a:pt x="13434" y="9185"/>
                  <a:pt x="13432" y="9069"/>
                  <a:pt x="13419" y="8954"/>
                </a:cubicBezTo>
                <a:cubicBezTo>
                  <a:pt x="13410" y="8872"/>
                  <a:pt x="13438" y="8826"/>
                  <a:pt x="13444" y="8756"/>
                </a:cubicBezTo>
                <a:cubicBezTo>
                  <a:pt x="13452" y="8663"/>
                  <a:pt x="13443" y="8595"/>
                  <a:pt x="13469" y="8508"/>
                </a:cubicBezTo>
                <a:cubicBezTo>
                  <a:pt x="13477" y="8483"/>
                  <a:pt x="13486" y="8459"/>
                  <a:pt x="13494" y="8434"/>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7232760" y="4276800"/>
            <a:ext cx="857160" cy="465120"/>
          </a:xfrm>
          <a:custGeom>
            <a:avLst/>
            <a:gdLst/>
            <a:ahLst/>
            <a:rect l="l" t="t" r="r" b="b"/>
            <a:pathLst>
              <a:path w="2382" h="1291">
                <a:moveTo>
                  <a:pt x="20166" y="12502"/>
                </a:moveTo>
                <a:cubicBezTo>
                  <a:pt x="20238" y="12572"/>
                  <a:pt x="20064" y="12598"/>
                  <a:pt x="20141" y="12675"/>
                </a:cubicBezTo>
                <a:cubicBezTo>
                  <a:pt x="20277" y="12810"/>
                  <a:pt x="20375" y="12549"/>
                  <a:pt x="20389" y="12477"/>
                </a:cubicBezTo>
                <a:cubicBezTo>
                  <a:pt x="20274" y="12444"/>
                  <a:pt x="20156" y="12507"/>
                  <a:pt x="20092" y="12626"/>
                </a:cubicBezTo>
                <a:cubicBezTo>
                  <a:pt x="20092" y="12693"/>
                  <a:pt x="20109" y="12705"/>
                  <a:pt x="20191" y="12650"/>
                </a:cubicBezTo>
                <a:cubicBezTo>
                  <a:pt x="20279" y="12580"/>
                  <a:pt x="20290" y="12601"/>
                  <a:pt x="20265" y="12502"/>
                </a:cubicBezTo>
                <a:cubicBezTo>
                  <a:pt x="20205" y="12506"/>
                  <a:pt x="19985" y="12616"/>
                  <a:pt x="20166" y="12675"/>
                </a:cubicBezTo>
                <a:cubicBezTo>
                  <a:pt x="20234" y="12697"/>
                  <a:pt x="20285" y="12492"/>
                  <a:pt x="20216" y="12502"/>
                </a:cubicBezTo>
                <a:cubicBezTo>
                  <a:pt x="20124" y="12515"/>
                  <a:pt x="20141" y="12633"/>
                  <a:pt x="20141" y="12477"/>
                </a:cubicBezTo>
                <a:cubicBezTo>
                  <a:pt x="20141" y="12485"/>
                  <a:pt x="20141" y="12494"/>
                  <a:pt x="20141" y="12502"/>
                </a:cubicBezTo>
              </a:path>
              <a:path w="2382" h="1291">
                <a:moveTo>
                  <a:pt x="20811" y="12402"/>
                </a:moveTo>
                <a:cubicBezTo>
                  <a:pt x="20762" y="12593"/>
                  <a:pt x="20653" y="12896"/>
                  <a:pt x="20811" y="13072"/>
                </a:cubicBezTo>
                <a:cubicBezTo>
                  <a:pt x="20844" y="13089"/>
                  <a:pt x="20877" y="13105"/>
                  <a:pt x="20910" y="13122"/>
                </a:cubicBezTo>
              </a:path>
              <a:path w="2382" h="1291">
                <a:moveTo>
                  <a:pt x="21010" y="12477"/>
                </a:moveTo>
                <a:cubicBezTo>
                  <a:pt x="21064" y="12386"/>
                  <a:pt x="21242" y="12261"/>
                  <a:pt x="21134" y="12526"/>
                </a:cubicBezTo>
                <a:cubicBezTo>
                  <a:pt x="21109" y="12567"/>
                  <a:pt x="21084" y="12609"/>
                  <a:pt x="21059" y="12650"/>
                </a:cubicBezTo>
                <a:cubicBezTo>
                  <a:pt x="21178" y="12579"/>
                  <a:pt x="21213" y="12553"/>
                  <a:pt x="21307" y="12601"/>
                </a:cubicBezTo>
                <a:cubicBezTo>
                  <a:pt x="21307" y="12747"/>
                  <a:pt x="21251" y="12954"/>
                  <a:pt x="21034" y="12898"/>
                </a:cubicBezTo>
                <a:cubicBezTo>
                  <a:pt x="21018" y="12882"/>
                  <a:pt x="21001" y="12865"/>
                  <a:pt x="20985" y="12849"/>
                </a:cubicBezTo>
              </a:path>
              <a:path w="2382" h="1291">
                <a:moveTo>
                  <a:pt x="21481" y="12849"/>
                </a:moveTo>
                <a:cubicBezTo>
                  <a:pt x="21581" y="12979"/>
                  <a:pt x="21571" y="13010"/>
                  <a:pt x="21555" y="13171"/>
                </a:cubicBezTo>
              </a:path>
              <a:path w="2382" h="1291">
                <a:moveTo>
                  <a:pt x="21630" y="12427"/>
                </a:moveTo>
                <a:cubicBezTo>
                  <a:pt x="21726" y="12356"/>
                  <a:pt x="21755" y="12333"/>
                  <a:pt x="21828" y="12303"/>
                </a:cubicBezTo>
              </a:path>
              <a:path w="2382" h="1291">
                <a:moveTo>
                  <a:pt x="21952" y="12154"/>
                </a:moveTo>
                <a:cubicBezTo>
                  <a:pt x="22004" y="12137"/>
                  <a:pt x="22047" y="12117"/>
                  <a:pt x="22101" y="12105"/>
                </a:cubicBezTo>
                <a:cubicBezTo>
                  <a:pt x="22173" y="12282"/>
                  <a:pt x="22109" y="12356"/>
                  <a:pt x="22027" y="12526"/>
                </a:cubicBezTo>
                <a:cubicBezTo>
                  <a:pt x="22019" y="12543"/>
                  <a:pt x="22010" y="12559"/>
                  <a:pt x="22002" y="12576"/>
                </a:cubicBezTo>
                <a:cubicBezTo>
                  <a:pt x="22125" y="12514"/>
                  <a:pt x="22250" y="12461"/>
                  <a:pt x="22374" y="12402"/>
                </a:cubicBezTo>
                <a:cubicBezTo>
                  <a:pt x="22390" y="12394"/>
                  <a:pt x="22407" y="12386"/>
                  <a:pt x="22423" y="12378"/>
                </a:cubicBezTo>
              </a:path>
              <a:path w="2382" h="1291">
                <a:moveTo>
                  <a:pt x="22101" y="11881"/>
                </a:moveTo>
                <a:cubicBezTo>
                  <a:pt x="22342" y="11992"/>
                  <a:pt x="22534" y="12113"/>
                  <a:pt x="22473" y="12427"/>
                </a:cubicBezTo>
                <a:cubicBezTo>
                  <a:pt x="22448" y="12477"/>
                  <a:pt x="22424" y="12526"/>
                  <a:pt x="22399" y="12576"/>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680000" y="4473720"/>
            <a:ext cx="812880" cy="492120"/>
          </a:xfrm>
          <a:custGeom>
            <a:avLst/>
            <a:gdLst/>
            <a:ahLst/>
            <a:rect l="l" t="t" r="r" b="b"/>
            <a:pathLst>
              <a:path w="2258" h="1365">
                <a:moveTo>
                  <a:pt x="13568" y="12477"/>
                </a:moveTo>
                <a:cubicBezTo>
                  <a:pt x="13568" y="12582"/>
                  <a:pt x="13571" y="12430"/>
                  <a:pt x="13494" y="12551"/>
                </a:cubicBezTo>
                <a:cubicBezTo>
                  <a:pt x="13494" y="12559"/>
                  <a:pt x="13494" y="12568"/>
                  <a:pt x="13494" y="12576"/>
                </a:cubicBezTo>
                <a:cubicBezTo>
                  <a:pt x="13576" y="12576"/>
                  <a:pt x="13650" y="12506"/>
                  <a:pt x="13543" y="12427"/>
                </a:cubicBezTo>
                <a:cubicBezTo>
                  <a:pt x="13492" y="12389"/>
                  <a:pt x="13443" y="12558"/>
                  <a:pt x="13494" y="12601"/>
                </a:cubicBezTo>
                <a:cubicBezTo>
                  <a:pt x="13607" y="12696"/>
                  <a:pt x="13661" y="12531"/>
                  <a:pt x="13618" y="12452"/>
                </a:cubicBezTo>
                <a:cubicBezTo>
                  <a:pt x="13530" y="12470"/>
                  <a:pt x="13560" y="12465"/>
                  <a:pt x="13543" y="12551"/>
                </a:cubicBezTo>
                <a:cubicBezTo>
                  <a:pt x="13626" y="12695"/>
                  <a:pt x="13693" y="12508"/>
                  <a:pt x="13568" y="12477"/>
                </a:cubicBezTo>
                <a:cubicBezTo>
                  <a:pt x="13560" y="12485"/>
                  <a:pt x="13551" y="12494"/>
                  <a:pt x="13543" y="12502"/>
                </a:cubicBezTo>
              </a:path>
              <a:path w="2258" h="1365">
                <a:moveTo>
                  <a:pt x="13146" y="12998"/>
                </a:moveTo>
                <a:cubicBezTo>
                  <a:pt x="13075" y="13168"/>
                  <a:pt x="12938" y="13496"/>
                  <a:pt x="12998" y="13692"/>
                </a:cubicBezTo>
                <a:cubicBezTo>
                  <a:pt x="13065" y="13760"/>
                  <a:pt x="13079" y="13785"/>
                  <a:pt x="13146" y="13767"/>
                </a:cubicBezTo>
              </a:path>
              <a:path w="2258" h="1365">
                <a:moveTo>
                  <a:pt x="13345" y="13444"/>
                </a:moveTo>
                <a:cubicBezTo>
                  <a:pt x="13370" y="13444"/>
                  <a:pt x="13394" y="13444"/>
                  <a:pt x="13419" y="13444"/>
                </a:cubicBezTo>
              </a:path>
              <a:path w="2258" h="1365">
                <a:moveTo>
                  <a:pt x="13543" y="13122"/>
                </a:moveTo>
                <a:cubicBezTo>
                  <a:pt x="13501" y="13271"/>
                  <a:pt x="13443" y="13507"/>
                  <a:pt x="13568" y="13643"/>
                </a:cubicBezTo>
                <a:cubicBezTo>
                  <a:pt x="13684" y="13769"/>
                  <a:pt x="13799" y="13537"/>
                  <a:pt x="13816" y="13469"/>
                </a:cubicBezTo>
                <a:cubicBezTo>
                  <a:pt x="13693" y="13515"/>
                  <a:pt x="13701" y="13610"/>
                  <a:pt x="13692" y="13742"/>
                </a:cubicBezTo>
              </a:path>
              <a:path w="2258" h="1365">
                <a:moveTo>
                  <a:pt x="13940" y="13568"/>
                </a:moveTo>
                <a:lnTo>
                  <a:pt x="13940" y="13568"/>
                </a:lnTo>
              </a:path>
              <a:path w="2258" h="1365">
                <a:moveTo>
                  <a:pt x="14238" y="13022"/>
                </a:moveTo>
                <a:cubicBezTo>
                  <a:pt x="14108" y="13109"/>
                  <a:pt x="14114" y="13143"/>
                  <a:pt x="14114" y="13295"/>
                </a:cubicBezTo>
                <a:cubicBezTo>
                  <a:pt x="14114" y="13303"/>
                  <a:pt x="14114" y="13312"/>
                  <a:pt x="14114" y="13320"/>
                </a:cubicBezTo>
                <a:cubicBezTo>
                  <a:pt x="14202" y="13301"/>
                  <a:pt x="14317" y="13200"/>
                  <a:pt x="14362" y="13345"/>
                </a:cubicBezTo>
                <a:cubicBezTo>
                  <a:pt x="14407" y="13489"/>
                  <a:pt x="14278" y="13533"/>
                  <a:pt x="14188" y="13593"/>
                </a:cubicBezTo>
              </a:path>
              <a:path w="2258" h="1365">
                <a:moveTo>
                  <a:pt x="14660" y="13618"/>
                </a:moveTo>
                <a:cubicBezTo>
                  <a:pt x="14660" y="13710"/>
                  <a:pt x="14662" y="13736"/>
                  <a:pt x="14635" y="13791"/>
                </a:cubicBezTo>
              </a:path>
              <a:path w="2258" h="1365">
                <a:moveTo>
                  <a:pt x="14734" y="13221"/>
                </a:moveTo>
                <a:cubicBezTo>
                  <a:pt x="14827" y="13174"/>
                  <a:pt x="14854" y="13161"/>
                  <a:pt x="14908" y="13122"/>
                </a:cubicBezTo>
              </a:path>
              <a:path w="2258" h="1365">
                <a:moveTo>
                  <a:pt x="15007" y="12973"/>
                </a:moveTo>
                <a:cubicBezTo>
                  <a:pt x="15055" y="12949"/>
                  <a:pt x="15069" y="12940"/>
                  <a:pt x="15106" y="12948"/>
                </a:cubicBezTo>
                <a:cubicBezTo>
                  <a:pt x="15129" y="13107"/>
                  <a:pt x="15087" y="13193"/>
                  <a:pt x="15032" y="13345"/>
                </a:cubicBezTo>
                <a:cubicBezTo>
                  <a:pt x="14970" y="13518"/>
                  <a:pt x="15171" y="13356"/>
                  <a:pt x="15255" y="13320"/>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685440" y="1981080"/>
            <a:ext cx="426708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n Your Battle Stations!</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Begin with 3 ships on your grid.  Remember to make each of your ships have an area of at least 4 square units.</a:t>
            </a:r>
            <a:endParaRPr b="0" lang="en-US" sz="2800" spc="-1" strike="noStrike">
              <a:solidFill>
                <a:srgbClr val="000000"/>
              </a:solidFill>
              <a:latin typeface="Times New Roman"/>
            </a:endParaRPr>
          </a:p>
        </p:txBody>
      </p:sp>
      <p:sp>
        <p:nvSpPr>
          <p:cNvPr id="109" name="PlaceHolder 2"/>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bjective:  Students will identify and plot ordered pairs on coordinate planes.</a:t>
            </a:r>
            <a:endParaRPr b="0" lang="en-US" sz="2800" spc="-1" strike="noStrike">
              <a:solidFill>
                <a:srgbClr val="000000"/>
              </a:solidFill>
              <a:latin typeface="Times New Roman"/>
            </a:endParaRPr>
          </a:p>
        </p:txBody>
      </p:sp>
      <p:pic>
        <p:nvPicPr>
          <p:cNvPr id="110" name="" descr=""/>
          <p:cNvPicPr/>
          <p:nvPr/>
        </p:nvPicPr>
        <p:blipFill>
          <a:blip r:embed="rId1"/>
          <a:stretch/>
        </p:blipFill>
        <p:spPr>
          <a:xfrm>
            <a:off x="5278320" y="1981080"/>
            <a:ext cx="3408480" cy="4114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bjective:  Students will identify and plot ordered pairs on coordinate planes.</a:t>
            </a:r>
            <a:endParaRPr b="0" lang="en-US" sz="2800" spc="-1" strike="noStrike">
              <a:solidFill>
                <a:srgbClr val="000000"/>
              </a:solidFill>
              <a:latin typeface="Times New Roman"/>
            </a:endParaRPr>
          </a:p>
        </p:txBody>
      </p:sp>
      <p:sp>
        <p:nvSpPr>
          <p:cNvPr id="112"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w that you have conquered your partner at Battleship (hopefully), show me how well you have conquered the concept of ordered pairs by completing the exit ticket.  Graph and label the following ordered pairs.</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0,-4)</a:t>
            </a:r>
            <a:r>
              <a:rPr b="0" lang="en-US" sz="2400" spc="-1" strike="noStrike">
                <a:solidFill>
                  <a:srgbClr val="000000"/>
                </a:solidFill>
                <a:latin typeface="Times New Roman"/>
              </a:rPr>
              <a:t>	</a:t>
            </a:r>
            <a:r>
              <a:rPr b="0" lang="en-US" sz="2400" spc="-1" strike="noStrike">
                <a:solidFill>
                  <a:srgbClr val="000000"/>
                </a:solidFill>
                <a:latin typeface="Times New Roman"/>
              </a:rPr>
              <a:t>B (5,-3 1/2)</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   (-2,-1)</a:t>
            </a:r>
            <a:r>
              <a:rPr b="0" lang="en-US" sz="2400" spc="-1" strike="noStrike">
                <a:solidFill>
                  <a:srgbClr val="000000"/>
                </a:solidFill>
                <a:latin typeface="Times New Roman"/>
              </a:rPr>
              <a:t>	</a:t>
            </a:r>
            <a:r>
              <a:rPr b="0" lang="en-US" sz="2400" spc="-1" strike="noStrike">
                <a:solidFill>
                  <a:srgbClr val="000000"/>
                </a:solidFill>
                <a:latin typeface="Times New Roman"/>
              </a:rPr>
              <a:t>D (-1/2, 0)</a:t>
            </a:r>
            <a:endParaRPr b="0" lang="en-US" sz="2400" spc="-1" strike="noStrike">
              <a:solidFill>
                <a:srgbClr val="000000"/>
              </a:solidFill>
              <a:latin typeface="Times New Roman"/>
            </a:endParaRPr>
          </a:p>
        </p:txBody>
      </p:sp>
      <p:pic>
        <p:nvPicPr>
          <p:cNvPr id="113" name="" descr=""/>
          <p:cNvPicPr/>
          <p:nvPr/>
        </p:nvPicPr>
        <p:blipFill>
          <a:blip r:embed="rId1"/>
          <a:stretch/>
        </p:blipFill>
        <p:spPr>
          <a:xfrm>
            <a:off x="4648320" y="2181240"/>
            <a:ext cx="3809880" cy="37130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omework</a:t>
            </a:r>
            <a:endParaRPr b="0" lang="en-US" sz="4400" spc="-1" strike="noStrike">
              <a:solidFill>
                <a:srgbClr val="000000"/>
              </a:solidFill>
              <a:latin typeface="Times New Roman"/>
            </a:endParaRPr>
          </a:p>
        </p:txBody>
      </p:sp>
      <p:sp>
        <p:nvSpPr>
          <p:cNvPr id="115"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orksheet</a:t>
            </a:r>
            <a:endParaRPr b="0" lang="en-US" sz="2800" spc="-1" strike="noStrike">
              <a:solidFill>
                <a:srgbClr val="000000"/>
              </a:solidFill>
              <a:latin typeface="Times New Roman"/>
            </a:endParaRPr>
          </a:p>
        </p:txBody>
      </p:sp>
      <p:pic>
        <p:nvPicPr>
          <p:cNvPr id="116" name="" descr=""/>
          <p:cNvPicPr/>
          <p:nvPr/>
        </p:nvPicPr>
        <p:blipFill>
          <a:blip r:embed="rId1"/>
          <a:stretch/>
        </p:blipFill>
        <p:spPr>
          <a:xfrm>
            <a:off x="4743360" y="1981080"/>
            <a:ext cx="3619440" cy="4114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07T05:51:30Z</dcterms:created>
  <dc:creator>Brian McGrath</dc:creator>
  <dc:description/>
  <dc:language>en-US</dc:language>
  <cp:lastModifiedBy>deanne elizabeth mcgrath</cp:lastModifiedBy>
  <dcterms:modified xsi:type="dcterms:W3CDTF">2010-12-22T18:38:36Z</dcterms:modified>
  <cp:revision>5</cp:revision>
  <dc:subject/>
  <dc:title>Warm-up:  Identify the coordinates for each point below.</dc:title>
</cp:coreProperties>
</file>